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0.xml.rels" ContentType="application/vnd.openxmlformats-package.relationships+xml"/>
  <Override PartName="/ppt/notesSlides/notesSlide11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0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3.jpeg" ContentType="image/jpeg"/>
  <Override PartName="/ppt/media/image27.jpeg" ContentType="image/jpeg"/>
  <Override PartName="/ppt/media/image10.jpeg" ContentType="image/jpeg"/>
  <Override PartName="/ppt/media/image14.png" ContentType="image/png"/>
  <Override PartName="/ppt/media/image12.jpeg" ContentType="image/jpeg"/>
  <Override PartName="/ppt/media/image29.jpeg" ContentType="image/jpeg"/>
  <Override PartName="/ppt/media/image35.jpeg" ContentType="image/jpeg"/>
  <Override PartName="/ppt/media/image25.jpeg" ContentType="image/jpeg"/>
  <Override PartName="/ppt/media/image32.png" ContentType="image/png"/>
  <Override PartName="/ppt/media/image15.jpeg" ContentType="image/jpeg"/>
  <Override PartName="/ppt/media/image18.jpeg" ContentType="image/jpeg"/>
  <Override PartName="/ppt/media/image61.jpeg" ContentType="image/jpeg"/>
  <Override PartName="/ppt/media/image17.jpeg" ContentType="image/jpeg"/>
  <Override PartName="/ppt/media/image22.jpeg" ContentType="image/jpeg"/>
  <Override PartName="/ppt/media/image20.jpeg" ContentType="image/jpeg"/>
  <Override PartName="/ppt/media/image19.png" ContentType="image/png"/>
  <Override PartName="/ppt/media/image49.jpeg" ContentType="image/jpeg"/>
  <Override PartName="/ppt/media/image1.jpeg" ContentType="image/jpeg"/>
  <Override PartName="/ppt/media/image21.png" ContentType="image/png"/>
  <Override PartName="/ppt/media/image6.jpeg" ContentType="image/jpeg"/>
  <Override PartName="/ppt/media/image51.jpeg" ContentType="image/jpeg"/>
  <Override PartName="/ppt/media/image4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40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3B5C-A5BA-4AE4-A1FF-AA29FAC285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пределах кожи крупного рогатого скота можно выделить три основных типа (класса) строения сетчатого сло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пределах кожи крупного рогатого скота можно выделить три основных типа (класса) строения сетчатого сло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эффициент продубленности показывает, сколько частей связанных дубящих веществ приходится на 100 частей гольевого вещества в ко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эффициент продубленности показывает, сколько частей связанных дубящих веществ приходится на 100 частей гольевого вещества в ко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эффициент продубленности показывает, сколько частей связанных дубящих веществ приходится на 100 частей гольевого вещества в ко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эффициент продубленности показывает, сколько частей связанных дубящих веществ приходится на 100 частей гольевого вещества в ко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пособностью кожи пропускать воздух и пары воды определяется в основном микроклимат внутри кожаной обуви. Поэтому воздухопроницаемость и еще в большей мере паропроницаемость имеют первостепенное значение для характеристики гигиенических свойств кожи, особенно мягкой для верха обув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пособностью кожи пропускать воздух и пары воды определяется в основном микроклимат внутри кожаной обуви. Поэтому воздухопроницаемость и еще в большей мере паропроницаемость имеют первостепенное значение для характеристики гигиенических свойств кожи, особенно мягкой для верха обув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пособностью кожи пропускать воздух и пары воды определяется в основном микроклимат внутри кожаной обуви. Поэтому воздухопроницаемость и еще в большей мере паропроницаемость имеют первостепенное значение для характеристики гигиенических свойств кожи, особенно мягкой для верха обув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В наибольшей степени это относится к лаковым и нитроцеллюлозным покрытиям, которые делают кожу почти воздухонепроницаемой. Хромовые кожи с анилиновой и полуанилиновой отделкой, с казеиновым покрытием, замша и велюр относятся к числу наиболее воздухопроницаем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войственный механизм паропроницаемости хорошо объясняет такие явления, когда кожа, будучи совершенно непроницаемой для воз духа, может быть в достаточной степени паропроницае-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очность кожи при растяжении принято определять пределом прочности при растяжении — разрывной нагрузкой на единицу площади поперечного сечения образца. Предел прочности при растяжении нормируется стандартами на все виды кожи и служит важнейшим показателем ее механичес­ких свой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очность кожи при растяжении принято определять пределом прочности при растяжении — разрывной нагрузкой на единицу площади поперечного сечения образца. Предел прочности при растяжении нормируется стандартами на все виды кожи и служит важнейшим показателем ее механичес­ких свой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очность кожи при растяжении принято определять пределом прочности при растяжении — разрывной нагрузкой на единицу площади поперечного сечения образца. Предел прочности при растяжении нормируется стандартами на все виды кожи и служит важнейшим показателем ее механичес­ких свой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нижение эластичности при­водит к появлению трещин при растяжении и изгибе кожи как в процессе формования верха обуви, так и при ее нос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Жесткость кожи, т. е. ее способность сопротивляться де­формирующим усилиям, и.грает большую роль при подборе кож для верха и низа обуви различных видов и назначений, поскольку с ней связаны технологические и эксплуатацион­ные свойства издели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исутствие кислоты в коже приводит к резкому снижению температуры сварива­ния. Некоторое снижение этого показателя вызывается так­же разрыхлением микроструктуры ко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Гидротермическую устойчивость определяют по сниже­нию прочности мокрой кожи при действии повышенной тем­пературы (60°С) в течение 4 ч. Кожи хромового и комбиниро­ванного дубления имеют высокую устойчивость к гидротермической обработ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опротивление истиранию — это эксплуатационный по­казатель, позволяющий судить об износостойкости подошвен­ной кожи. Истирание является одним из основных факторов износа кожаных деталей верха обуви, особенно подклад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Коллаген, так же как и другие белки, состоит из аминокисл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Коллаген имеет цепочечное строение и состоит из полипептидных цепей, образуемых аминокисло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исутствие кислоты в коже приводит к резкому снижению температуры сварива­ния. Некоторое снижение этого показателя вызывается так­же разрыхлением микроструктуры ко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Гидротермическую устойчивость определяют по сниже­нию прочности мокрой кожи при действии повышенной тем­пературы (60°С) в течение 4 ч. Кожи хромового и комбиниро­ванного дубления имеют высокую устойчивость к гидротермической обработ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опротивление истиранию — это эксплуатационный по­казатель, позволяющий судить об износостойкости подошвен­ной кожи. Истирание является одним из основных факторов износа кожаных деталей верха обуви, особенно подклад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труктура коллагена очень сложная и ее условно подразделяют на четыре порядка.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Вторичной структурой коллагена являются спиральные полипептидные цепи. Три такие цепи, свернутые спирально, подобно жилам каната, составляют молекулу, часто на­зываемую эликсом. Эликс — это третичная структура кол­лаг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Четвертичной структурой коллагена является фибрилла, представляющая собой совокупность упорядоченно уложен­ных молекул, соединенных между собой с полной повторя­емостью укладки каждые 700 А (7-Ю"8 м). Далее идут волокна и пучки волокон, переплетенные между собой без начала и кон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Таково строение коллагена, обусловливающее высокие механические свойства шкур и кож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 сравнительно небольшой толщине пучки, волокна и фибриллы обладают неопределенно боль­шой длиной. Ткань дермы отличается сильно развитой внут­ренней поверхностью, имеет множество промежутков разно­образной формы и размеров. Эти пространственные проме­жутки заполнены межволоконным веществом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учк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реплетаясь между собой в различных направлениях, образуют сложную ткань дермы. В свою очередь,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ллагеновы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олокна построены из более тонких структурных элементов — фибрилл толщиной до 0,5 мк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Коллагеновые волокна, образованные белком коллагеном, имеют толщину от 1 до 3 мкм. Соединяясь, они образуют пучки волокон, толщина которых 30—100 м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труктура коллагена очень сложная и ее условно подразделяют на четыре порядка.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Вторичной структурой коллагена являются спиральные полипептидные цепи. Три такие цепи, свернутые спирально, подобно жилам каната, составляют молекулу, часто на­зываемую эликсом. Элике — это третичная структура кол­лаг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Четвертичной структурой коллагена является фибрилла, представляющая собой совокупность упорядоченно уложен­ных молекул, соединенных между собой с полной повторя­емостью укладки каждые 700 А (7-Ю"8 м). Далее идут волокна и пучки волокон, переплетенные между собой без начала и кон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Таково строение коллагена, обусловливающее высокие механические свойства шкур и кож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АМИНОКИСЛОТЫ РАЗНЫЕ,СОДЕРЖАНИЕ АЗОТА ТОЖЕ РАЗ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высокой способностью к набуханию - поглощению воды со значительным увеличением объё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ибольшее количество эластиновых волокон располагается в верхнем слое дермы, прилегающем к эпидермису. Они создают здесь сетчатые сплетения вокруг различных структурных элементов дермы — волосяных сумок, желез, кровеносных сосу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тикулиновые волокна, состоящие из белка ретикулина, отличаются от коллагеновых и эластиновых волокон способностью восстанавливать и сорбировать серебро из его со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труктуре дермы по толщине наблюдаются большие различия, что послужило основанием для разделения дермы на два слоя. Верхний слой, прилегающий к эпидермису, называется сосочковым; нижний, примыкающий к подкожно-жировому слою — сетчат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шкуры крупного рогатого скота, овец, коз, свиней и лошадей. Кроме того, в небольшом количестве используются шкуры оленей, верблюдов, морских животных (моржей и китов), диких животных (лося, кабана), пресмыкающихся (крокодила, змей, варанов, ящериц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одержание жира колеблется от 1,5 до 40% и более в зависимости от вида животного: в шкурах крупного рогатого скота жира мало, в овчине и свиных шкурах, а особенно в шкурах морских животных — наибольшее коли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шкуре, сразу же после ее съемки животного, возникают изменения, вызываемые бактериальными и ерментативными процессами. Эти изменения отражаются на ф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ико-химических свойствах и микроструктуре шкуры и снижают каче­ство получаемой из нее кожи. Чтобы предохранить парную шкуру от бактериального и ферментативного разложения, ее необходимо консервировать не позже, чем через 1—2 часа после съемки. При консервировании шкуры в ней создаются условия, неблагоприятные для развития бактерий и воздействия их и ферментов на белковые ве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Из всех способов консервирования кожевенного сырья наиболее распространено мокросоление. Широкому применению его способству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-независимость от метеорологических усло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-возможность использования для консервирования как мелкого, так и крупного  кожевенного сыр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-обеспечение наиболее высокого качества кожевенного сырь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-упрощение проведения подготовительных процессов и операций кожевенн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лщина эпидермиса    чаще   всего составляет от 1,5 до 2% толщины   шкуры;   шкуры   с   густым, хорошо    развитым    волосяным покровом имеют более   тонкий эпидермис, чем шкуры, в кото­рых этот покров слабо разви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 толщине эпидермис неоднороден и состоит из двух слоев — слизистого (мальпигиевого) и рогового. Мальпигиев слой, являясь внутренним слоем эпидермиса, образован несколькими слоями клеток. Клетки ниж­него слоя, прилегающего к дерме, размножаются деле­нием; их питание осуществ­ляется с помощью лимфы, попадающей из дермы. Выше­лежащие слои состоят из тех же клеток, но измененных и утерявших способность к размножению. . Наружный — ро­говой слой — это отмершие, ороговевшие клетки, вытолкнутые к верху из нижележащего мальпигиевого слоя. Клетки эпидермиса содержат в большом количестве белковое веще­ство кератин. Особенно глубоко эпидермис вдается в дерму вблизи волося­ных сумок.После удаления в процессе вы­делки кожи эпидермиса и волосяного покрова эти неровности вместе с выходными отверстиями от волос образуют на п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ерхности дермы своеобразный рисунок. В готовой коже этот естественный рисунок лицевой поверхности называется мере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цесс склад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рма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(собственно   кожа),    являющаяся     основным слоем шкуры, в верхней части заметно  отграничивается от  эпидермиса;   в   нижней   части   между дермой и подкожной клетчаткой резкой границы не имеется. Дерма образуется переплетающимися в разных направлениях пучками волокон  соединительной  ткани.  Основную  массу дермы  составляют коллагеновые волокна в виде пучков неопределенно большой длины при  сравнительно  незначительной толщине.    Промежутки    между пучками  волокон заполнены  межволоконным    вещ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жёстких кож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ичие названных биологических элементов придает значительную рыхлость этому слою . Толщина сосочкового слоя шкуры равномерна по площа­ди и мало меняется с возрастом животного. Это обусловливает однородную толщину лицевого слоя кожи, выработанной из определенного вида сыр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ллагеновые волокна в нем сравнительно тонки, а волокнистые пучки развиты слабо. По мере приближения к сетчатому слою толщина волокон и пуч­ков увеличив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ыхлость структуры в сочетании со слабым развитием 'волокнистых пучков обусловливает невысокую прочность сосочкового слоя. В готовой коже она обычно в 2—3 раза ниже, чем прочность сетчатого сло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Кроме того, у шкур некоторых животных (например, крупного рогатого скота) пучки сетчатого слоя располагаются более вертикаль­но, нежели пучки сосочкового слоя. В сетчатом слое отсут­ствуют сальные и потовые железы, волосяные сумки. Здесь проходят лишь отдельные кровеносные сосу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Толщина сетчатого слоя неодинакова у различных видов кожевенного сырья, она меняется также в зависимости от возраста животного. У шкур молодняка крупного рогатого скота толщина сетчатого слоя составляет 60—65%, у взрос­лых животных — 75—80% толщины дермы. В шкурах овец сетчатый слой занимает лишь 30—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Акриловые покрытия способствуют сохранению лицевой поверхностью кожи мягкости в большей степени, чем нитроцеллюлозные покрытия, но в меньшей степени, чем казеинов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Волосяной покров  животных  состоит  из различных  по  длине, толщине и структуре волос.  В  волосе различают волосяной стержень, выходящий наружу,  и  корень, расположенный в так называемой волосяной сумке. В образовании волосяной сумки участвуют тонкие пучки коллагеновых волокон   (наружная оболоч­ка)   и эпителиальные клетки    (внутренняя   оболоч­к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олосяная сумка расположена под некоторым углом к поверхности дермы; степень углубления во­лосяной сумки в дерму различна в шкурах разных животных. На  дне  сумки  дерма   образует   входя­щий в сумку выступ, называемый сосочком волоса; и нем располагаются лимфатические и кровеносные сосуды, питающие волос.   Утолщенный конец корпя полоса — его луковица — имеет форму полураскры­тых клещей, которые охватывают   сосочек   волоса. Волос удерживается в волосяной сумке благодаря сцеплению между луковицей и сосочком и силе тре­ния   между  корнем   волоса   и   внутренней  поверх­ностью волосяной сум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ирается приблизительно от уровня залегания луковиц волоса и потовых желез до наружной лицевой поверхности кожи. Пучки коллагеновых волокон сосочкового слоя имеют относительно меньшую толщину и густо переплетены. В нижней части сосочкового слоя они имеют вертикальное или наклонное направление; по мере приближения к лицевой поверхности кожи волокна все больше утончаются и принимают положение, более отлогое или параллельное лицевой поверхности ко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очковый слой кожи пронизан отверстиями от волосяных сумок, сальных и потовых желез, а также кровеносных и лимфатических сосудов. Мелковолокнистая структура сосочкового слоя кожи, большое количество различных отверстий и пустот обусловливают его сравнительно невысокие механические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очковый слой замыкается весьма тонкой сетчатой пленкой, образующей так называемое лицо кожи. Последнее не представляет собой совершенно гладкой поверхности, а обладает своеобразной неровностью, вызываемой наличием в лицевой пленке особых возвышений — сосочков и отверстий от имевшихся в сосочковом слое терморегулирующих включений. Сосочкообразный характер поверхности кожи и многочисленные отверстия в ней вызывают возникновение на коже специфического поверхностного рисунка — мереи. Характер этого рисунка определяется очертаниями и размерами сосочков поверхности кожи и густотой, размерами и расположением отверстий от волос. Индивидуальные особенности каждого вида животного отражаются не только на обшей структуре кожи, но и на характере мереи, вследствие чего коже каждого вида животных соответствует своя определенная мер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составляет основную часть толщины кожи и состоит из пучков коллагеновых волокон большей или меньшей толщины и длины. Эти пучки переплетаются между собой в различных направлениях и плоскостях, образуя замкнутые ромбовидные петли, соединяющиеся в густую сложную сет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отношения толщин сосочкового и сетчатого слоев неодинаковы в кожах животных различного вида и возраста, а также в отдельных участках одной и той же кожи. В то время как абсолютная толщина сосочкового слоя сравнительно мало подвержена изменениям, толщина сетчатого слоя колеблется в довольно широких пределах. Соответственно этому изменение общей толщины кожи происходит преимущественно за счет изменений толщины сетчатого слоя. В более тонких участках кожи сосочковый слой занимает относительно большую величину, чем в более толстых участ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 углом наклона пучков волокон подразумевают преобладающее направление расположения большинства волоконных пучков в сетчатом слое. различают три вида сплетений: вертикальное— под большим углом, близким к 90° (рис. 13, а), горизонтальное—под малым углом, близким к 0° (рис. 13, б), и наклонное — занимающее среднее место между вертикальным и горизонтальным, т. е. близкое к 45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ертикальное сплетение, обеспечивая высокую износоустойчивость подошвенной кожи, неприемлемо в коже для верха обуви, так как придает ей излишнюю жесткость; горизонтальное или слегка наклонное сплетение пучков волокон, наоборот, характеризует низкое качество подошвенной кожи и вполне удовлетворительное во многих случаях качество кожи для верха обу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B77-B023-4659-8B7F-FE516270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C51-D540-4003-812C-770A411F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A48-D09E-49FD-A65B-350461B9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0D2-7DDC-4238-B2D3-9EA4C6D9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5ED1-B706-4457-A9C5-A77F71F5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F18C-1EB1-4630-9F8A-7B2EB654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3275-3063-4AE1-915F-117741A4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A8A9-F534-48F0-A082-7F3F77C6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2E85-024C-4CC3-8145-EA103FCB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7DB6-7103-469A-B80C-3A69AC43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106F-D0EB-41A8-9A4E-CAC49263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F35-F676-4188-9864-A9AD7D03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1FC6-75EC-4D04-98E5-6E7071DF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D320-DDA6-4A2D-BA4F-F76DC36A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4DB4-561D-4EB2-B529-E8A338F8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1593-7BD3-4509-A58E-AB1DCE3D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A01B-E16E-4C40-84ED-E041B7D3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1FD2B-2EF1-4AD5-A262-A34A5C49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11F03-ADCE-450F-B383-A2218E0E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D2F2-8073-46BD-B1BB-F40C6DB8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CD235-98D5-4A71-B209-FCF3DACF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2C078-E041-4F0F-B913-DC4E99E0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0E3-E11E-4E80-894D-250800E9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6C8F-1F87-4384-99EE-531EEB3A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289FC-80CF-483C-B024-94C04502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B9994-DD17-492D-8800-C74682AF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E138A-8AE7-40B1-B0F6-6A4DC6FC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DD0C2-6E7A-4962-935E-64106712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1A6E4-549E-4962-8FC5-027B1354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C4D8E-F586-467F-B728-E9AF4E3C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8A231-EE1A-4000-8197-DD888536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E087E-BD3E-4B9E-9269-5A366675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7EBCC-59BF-4D43-9631-081FB4B3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5DB-71EF-4CB2-B046-E90D546A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5838C-16F6-4029-84C6-23FD05A5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664D9-0B51-4632-9AFF-C43C74B5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E1BBC-634D-4C61-8351-9464E0EA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AB75B-984B-4F2F-B330-C68C7A05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EA498-11A6-4327-86FB-82B6AC23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75EAB-8326-45CD-B219-0C0A8A0F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E9D15-3423-4C4C-AFC2-9C11A605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C4E19-12D0-4462-97B2-5E97D32A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31B7C-7B86-454C-91A1-824C15F4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968-F4C5-4B47-A1E2-D04486D1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F38-D17D-4C8A-9BF3-7650981D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4C8-4508-4205-9C3E-5836E278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7D1-6C50-425B-9AA6-5F6C4846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0D3-501F-466C-B919-650E5ECF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E385-3438-44A0-8D8F-10C1E7EEE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CB71-53C7-49EA-8AB1-253D76287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FC20-E072-45F4-AFA6-54F4F9FAC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52F1-B102-4C41-ADCB-911EBC8A7EC3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9.jpeg"/><Relationship Id="rId3" Type="http://schemas.openxmlformats.org/officeDocument/2006/relationships/slide" Target="slide101.xml"/><Relationship Id="rId4" Type="http://schemas.openxmlformats.org/officeDocument/2006/relationships/slide" Target="slide103.xml"/><Relationship Id="rId5" Type="http://schemas.openxmlformats.org/officeDocument/2006/relationships/slide" Target="slide103.xml"/><Relationship Id="rId6" Type="http://schemas.openxmlformats.org/officeDocument/2006/relationships/slide" Target="slide102.xml"/><Relationship Id="rId7" Type="http://schemas.openxmlformats.org/officeDocument/2006/relationships/slide" Target="slide88.xml"/><Relationship Id="rId8" Type="http://schemas.openxmlformats.org/officeDocument/2006/relationships/image" Target="../media/image16.png"/><Relationship Id="rId9" Type="http://schemas.openxmlformats.org/officeDocument/2006/relationships/slide" Target="slide104.xm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9.jpeg"/><Relationship Id="rId3" Type="http://schemas.openxmlformats.org/officeDocument/2006/relationships/slide" Target="slide100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9.jpeg"/><Relationship Id="rId3" Type="http://schemas.openxmlformats.org/officeDocument/2006/relationships/slide" Target="slide100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9.jpeg"/><Relationship Id="rId3" Type="http://schemas.openxmlformats.org/officeDocument/2006/relationships/slide" Target="slide100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0.jpeg"/><Relationship Id="rId3" Type="http://schemas.openxmlformats.org/officeDocument/2006/relationships/slide" Target="slide88.xml"/><Relationship Id="rId4" Type="http://schemas.openxmlformats.org/officeDocument/2006/relationships/image" Target="../media/image16.png"/><Relationship Id="rId5" Type="http://schemas.openxmlformats.org/officeDocument/2006/relationships/slide" Target="slide100.xm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6.xml"/><Relationship Id="rId3" Type="http://schemas.openxmlformats.org/officeDocument/2006/relationships/slide" Target="slide107.xml"/><Relationship Id="rId4" Type="http://schemas.openxmlformats.org/officeDocument/2006/relationships/slide" Target="slide109.xml"/><Relationship Id="rId5" Type="http://schemas.openxmlformats.org/officeDocument/2006/relationships/slide" Target="slide111.xml"/><Relationship Id="rId6" Type="http://schemas.openxmlformats.org/officeDocument/2006/relationships/slide" Target="slide112.xml"/><Relationship Id="rId7" Type="http://schemas.openxmlformats.org/officeDocument/2006/relationships/slide" Target="slide113.xml"/><Relationship Id="rId8" Type="http://schemas.openxmlformats.org/officeDocument/2006/relationships/slide" Target="slide115.xml"/><Relationship Id="rId9" Type="http://schemas.openxmlformats.org/officeDocument/2006/relationships/slide" Target="slide116.xml"/><Relationship Id="rId10" Type="http://schemas.openxmlformats.org/officeDocument/2006/relationships/slide" Target="slide116.xml"/><Relationship Id="rId11" Type="http://schemas.openxmlformats.org/officeDocument/2006/relationships/slide" Target="slide3.xml"/><Relationship Id="rId12" Type="http://schemas.openxmlformats.org/officeDocument/2006/relationships/image" Target="../media/image16.png"/><Relationship Id="rId13" Type="http://schemas.openxmlformats.org/officeDocument/2006/relationships/slide" Target="slide119.xml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5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5.xml"/><Relationship Id="rId3" Type="http://schemas.openxmlformats.org/officeDocument/2006/relationships/image" Target="../media/image16.png"/><Relationship Id="rId4" Type="http://schemas.openxmlformats.org/officeDocument/2006/relationships/slide" Target="slide108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5.xml"/><Relationship Id="rId3" Type="http://schemas.openxmlformats.org/officeDocument/2006/relationships/image" Target="../media/image16.png"/><Relationship Id="rId4" Type="http://schemas.openxmlformats.org/officeDocument/2006/relationships/slide" Target="slide107.xm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5.xml"/><Relationship Id="rId3" Type="http://schemas.openxmlformats.org/officeDocument/2006/relationships/image" Target="../media/image16.png"/><Relationship Id="rId4" Type="http://schemas.openxmlformats.org/officeDocument/2006/relationships/slide" Target="slide110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image" Target="../media/image16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5.xml"/><Relationship Id="rId3" Type="http://schemas.openxmlformats.org/officeDocument/2006/relationships/image" Target="../media/image16.png"/><Relationship Id="rId4" Type="http://schemas.openxmlformats.org/officeDocument/2006/relationships/slide" Target="slide109.xm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5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5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14.xml"/><Relationship Id="rId3" Type="http://schemas.openxmlformats.org/officeDocument/2006/relationships/slide" Target="slide114.xml"/><Relationship Id="rId4" Type="http://schemas.openxmlformats.org/officeDocument/2006/relationships/slide" Target="slide114.xml"/><Relationship Id="rId5" Type="http://schemas.openxmlformats.org/officeDocument/2006/relationships/slide" Target="slide105.xm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13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0.xml"/><Relationship Id="rId3" Type="http://schemas.openxmlformats.org/officeDocument/2006/relationships/slide" Target="slide121.xml"/><Relationship Id="rId4" Type="http://schemas.openxmlformats.org/officeDocument/2006/relationships/slide" Target="slide122.xml"/><Relationship Id="rId5" Type="http://schemas.openxmlformats.org/officeDocument/2006/relationships/slide" Target="slide123.xml"/><Relationship Id="rId6" Type="http://schemas.openxmlformats.org/officeDocument/2006/relationships/image" Target="../media/image16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4.xml"/><Relationship Id="rId3" Type="http://schemas.openxmlformats.org/officeDocument/2006/relationships/slide" Target="slide125.xml"/><Relationship Id="rId4" Type="http://schemas.openxmlformats.org/officeDocument/2006/relationships/slide" Target="slide126.xml"/><Relationship Id="rId5" Type="http://schemas.openxmlformats.org/officeDocument/2006/relationships/slide" Target="slide127.xml"/><Relationship Id="rId6" Type="http://schemas.openxmlformats.org/officeDocument/2006/relationships/slide" Target="slide128.xml"/><Relationship Id="rId7" Type="http://schemas.openxmlformats.org/officeDocument/2006/relationships/slide" Target="slide129.xml"/><Relationship Id="rId8" Type="http://schemas.openxmlformats.org/officeDocument/2006/relationships/image" Target="../media/image16.png"/><Relationship Id="rId9" Type="http://schemas.openxmlformats.org/officeDocument/2006/relationships/slide" Target="slide131.xml"/><Relationship Id="rId10" Type="http://schemas.openxmlformats.org/officeDocument/2006/relationships/image" Target="../media/image13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1.xm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12.xml"/><Relationship Id="rId4" Type="http://schemas.openxmlformats.org/officeDocument/2006/relationships/image" Target="../media/image16.png"/><Relationship Id="rId5" Type="http://schemas.openxmlformats.org/officeDocument/2006/relationships/slide" Target="slide14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image" Target="../media/image4.png"/><Relationship Id="rId6" Type="http://schemas.openxmlformats.org/officeDocument/2006/relationships/slide" Target="slide12.xml"/><Relationship Id="rId7" Type="http://schemas.openxmlformats.org/officeDocument/2006/relationships/image" Target="../media/image16.png"/><Relationship Id="rId8" Type="http://schemas.openxmlformats.org/officeDocument/2006/relationships/slide" Target="slide13.xml"/><Relationship Id="rId9" Type="http://schemas.openxmlformats.org/officeDocument/2006/relationships/image" Target="../media/image19.png"/><Relationship Id="rId10" Type="http://schemas.openxmlformats.org/officeDocument/2006/relationships/slide" Target="slide15.xml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" Target="slide14.xml"/><Relationship Id="rId4" Type="http://schemas.openxmlformats.org/officeDocument/2006/relationships/image" Target="../media/image16.png"/><Relationship Id="rId5" Type="http://schemas.openxmlformats.org/officeDocument/2006/relationships/slide" Target="slide16.xm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slide" Target="slide12.xml"/><Relationship Id="rId6" Type="http://schemas.openxmlformats.org/officeDocument/2006/relationships/image" Target="../media/image16.png"/><Relationship Id="rId7" Type="http://schemas.openxmlformats.org/officeDocument/2006/relationships/slide" Target="slide14.xml"/><Relationship Id="rId8" Type="http://schemas.openxmlformats.org/officeDocument/2006/relationships/image" Target="../media/image19.png"/><Relationship Id="rId9" Type="http://schemas.openxmlformats.org/officeDocument/2006/relationships/slide" Target="slide17.xml"/><Relationship Id="rId10" Type="http://schemas.openxmlformats.org/officeDocument/2006/relationships/image" Target="../media/image4.png"/><Relationship Id="rId11" Type="http://schemas.openxmlformats.org/officeDocument/2006/relationships/slide" Target="slide20.xml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image" Target="../media/image19.png"/><Relationship Id="rId4" Type="http://schemas.openxmlformats.org/officeDocument/2006/relationships/slide" Target="slide12.xm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" Target="slide3.xml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" Target="slide11.xml"/><Relationship Id="rId4" Type="http://schemas.openxmlformats.org/officeDocument/2006/relationships/image" Target="../media/image16.png"/><Relationship Id="rId5" Type="http://schemas.openxmlformats.org/officeDocument/2006/relationships/slide" Target="slide21.xm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23.jpeg"/><Relationship Id="rId6" Type="http://schemas.openxmlformats.org/officeDocument/2006/relationships/slide" Target="slide11.xml"/><Relationship Id="rId7" Type="http://schemas.openxmlformats.org/officeDocument/2006/relationships/image" Target="../media/image16.png"/><Relationship Id="rId8" Type="http://schemas.openxmlformats.org/officeDocument/2006/relationships/slide" Target="slide27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16.png"/><Relationship Id="rId4" Type="http://schemas.openxmlformats.org/officeDocument/2006/relationships/slide" Target="slide2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7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6.xml"/><Relationship Id="rId5" Type="http://schemas.openxmlformats.org/officeDocument/2006/relationships/slide" Target="slide3.xml"/><Relationship Id="rId6" Type="http://schemas.openxmlformats.org/officeDocument/2006/relationships/image" Target="../media/image16.png"/><Relationship Id="rId7" Type="http://schemas.openxmlformats.org/officeDocument/2006/relationships/slide" Target="slide24.xml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" Target="slide25.xml"/><Relationship Id="rId4" Type="http://schemas.openxmlformats.org/officeDocument/2006/relationships/image" Target="../media/image16.png"/><Relationship Id="rId5" Type="http://schemas.openxmlformats.org/officeDocument/2006/relationships/slide" Target="slide30.xm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" Target="slide25.xml"/><Relationship Id="rId4" Type="http://schemas.openxmlformats.org/officeDocument/2006/relationships/image" Target="../media/image16.png"/><Relationship Id="rId5" Type="http://schemas.openxmlformats.org/officeDocument/2006/relationships/slide" Target="slide28.xm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" Target="slide25.xml"/><Relationship Id="rId5" Type="http://schemas.openxmlformats.org/officeDocument/2006/relationships/image" Target="../media/image16.png"/><Relationship Id="rId6" Type="http://schemas.openxmlformats.org/officeDocument/2006/relationships/slide" Target="slide26.xm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16.png"/><Relationship Id="rId4" Type="http://schemas.openxmlformats.org/officeDocument/2006/relationships/slide" Target="slide30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29.xml"/><Relationship Id="rId14" Type="http://schemas.openxmlformats.org/officeDocument/2006/relationships/slide" Target="slide40.xml"/><Relationship Id="rId15" Type="http://schemas.openxmlformats.org/officeDocument/2006/relationships/slide" Target="slide65.xml"/><Relationship Id="rId16" Type="http://schemas.openxmlformats.org/officeDocument/2006/relationships/slide" Target="slide65.xml"/><Relationship Id="rId17" Type="http://schemas.openxmlformats.org/officeDocument/2006/relationships/slide" Target="slide88.xml"/><Relationship Id="rId18" Type="http://schemas.openxmlformats.org/officeDocument/2006/relationships/slide" Target="slide105.xml"/><Relationship Id="rId19" Type="http://schemas.openxmlformats.org/officeDocument/2006/relationships/slide" Target="slide118.xml"/><Relationship Id="rId20" Type="http://schemas.openxmlformats.org/officeDocument/2006/relationships/slide" Target="slide131.xml"/><Relationship Id="rId21" Type="http://schemas.openxmlformats.org/officeDocument/2006/relationships/image" Target="../media/image14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8.xml"/><Relationship Id="rId11" Type="http://schemas.openxmlformats.org/officeDocument/2006/relationships/slide" Target="slide38.xml"/><Relationship Id="rId12" Type="http://schemas.openxmlformats.org/officeDocument/2006/relationships/slide" Target="slide39.xml"/><Relationship Id="rId13" Type="http://schemas.openxmlformats.org/officeDocument/2006/relationships/slide" Target="slide39.xml"/><Relationship Id="rId14" Type="http://schemas.openxmlformats.org/officeDocument/2006/relationships/slide" Target="slide29.xml"/><Relationship Id="rId15" Type="http://schemas.openxmlformats.org/officeDocument/2006/relationships/image" Target="../media/image19.png"/><Relationship Id="rId16" Type="http://schemas.openxmlformats.org/officeDocument/2006/relationships/slide" Target="slide3.xml"/><Relationship Id="rId17" Type="http://schemas.openxmlformats.org/officeDocument/2006/relationships/image" Target="../media/image16.png"/><Relationship Id="rId18" Type="http://schemas.openxmlformats.org/officeDocument/2006/relationships/slide" Target="slide34.xml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0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" Target="slide30.xml"/><Relationship Id="rId4" Type="http://schemas.openxmlformats.org/officeDocument/2006/relationships/image" Target="../media/image16.png"/><Relationship Id="rId5" Type="http://schemas.openxmlformats.org/officeDocument/2006/relationships/slide" Target="slide3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0.xml"/><Relationship Id="rId3" Type="http://schemas.openxmlformats.org/officeDocument/2006/relationships/image" Target="../media/image16.png"/><Relationship Id="rId4" Type="http://schemas.openxmlformats.org/officeDocument/2006/relationships/slide" Target="slide32.xm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" Target="slide30.xml"/><Relationship Id="rId5" Type="http://schemas.openxmlformats.org/officeDocument/2006/relationships/image" Target="../media/image16.png"/><Relationship Id="rId6" Type="http://schemas.openxmlformats.org/officeDocument/2006/relationships/slide" Target="slide40.xm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0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0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" Target="slide30.xm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0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0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3.xml"/><Relationship Id="rId10" Type="http://schemas.openxmlformats.org/officeDocument/2006/relationships/image" Target="../media/image16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1.xml"/><Relationship Id="rId3" Type="http://schemas.openxmlformats.org/officeDocument/2006/relationships/slide" Target="slide48.xml"/><Relationship Id="rId4" Type="http://schemas.openxmlformats.org/officeDocument/2006/relationships/slide" Target="slide45.xml"/><Relationship Id="rId5" Type="http://schemas.openxmlformats.org/officeDocument/2006/relationships/slide" Target="slide3.xml"/><Relationship Id="rId6" Type="http://schemas.openxmlformats.org/officeDocument/2006/relationships/image" Target="../media/image16.png"/><Relationship Id="rId7" Type="http://schemas.openxmlformats.org/officeDocument/2006/relationships/slide" Target="slide44.xml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4.xml"/><Relationship Id="rId3" Type="http://schemas.openxmlformats.org/officeDocument/2006/relationships/slide" Target="slide40.xml"/><Relationship Id="rId4" Type="http://schemas.openxmlformats.org/officeDocument/2006/relationships/image" Target="../media/image16.png"/><Relationship Id="rId5" Type="http://schemas.openxmlformats.org/officeDocument/2006/relationships/slide" Target="slide42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3.xml"/><Relationship Id="rId3" Type="http://schemas.openxmlformats.org/officeDocument/2006/relationships/image" Target="../media/image4.png"/><Relationship Id="rId4" Type="http://schemas.openxmlformats.org/officeDocument/2006/relationships/slide" Target="slide40.xml"/><Relationship Id="rId5" Type="http://schemas.openxmlformats.org/officeDocument/2006/relationships/image" Target="../media/image16.png"/><Relationship Id="rId6" Type="http://schemas.openxmlformats.org/officeDocument/2006/relationships/slide" Target="slide41.xml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0.xml"/><Relationship Id="rId3" Type="http://schemas.openxmlformats.org/officeDocument/2006/relationships/image" Target="../media/image16.png"/><Relationship Id="rId4" Type="http://schemas.openxmlformats.org/officeDocument/2006/relationships/slide" Target="slide42.xm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6.xml"/><Relationship Id="rId3" Type="http://schemas.openxmlformats.org/officeDocument/2006/relationships/slide" Target="slide7.xml"/><Relationship Id="rId4" Type="http://schemas.openxmlformats.org/officeDocument/2006/relationships/slide" Target="slide41.xml"/><Relationship Id="rId5" Type="http://schemas.openxmlformats.org/officeDocument/2006/relationships/image" Target="../media/image16.png"/><Relationship Id="rId6" Type="http://schemas.openxmlformats.org/officeDocument/2006/relationships/slide" Target="slide45.xm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slide59.xml"/><Relationship Id="rId5" Type="http://schemas.openxmlformats.org/officeDocument/2006/relationships/slide" Target="slide59.xml"/><Relationship Id="rId6" Type="http://schemas.openxmlformats.org/officeDocument/2006/relationships/slide" Target="slide40.xml"/><Relationship Id="rId7" Type="http://schemas.openxmlformats.org/officeDocument/2006/relationships/image" Target="../media/image16.png"/><Relationship Id="rId8" Type="http://schemas.openxmlformats.org/officeDocument/2006/relationships/slide" Target="slide57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4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5.xml"/><Relationship Id="rId3" Type="http://schemas.openxmlformats.org/officeDocument/2006/relationships/image" Target="../media/image16.png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9.xml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" Target="slide49.xml"/><Relationship Id="rId8" Type="http://schemas.openxmlformats.org/officeDocument/2006/relationships/slide" Target="slide50.xml"/><Relationship Id="rId9" Type="http://schemas.openxmlformats.org/officeDocument/2006/relationships/slide" Target="slide50.xml"/><Relationship Id="rId10" Type="http://schemas.openxmlformats.org/officeDocument/2006/relationships/slide" Target="slide50.xml"/><Relationship Id="rId11" Type="http://schemas.openxmlformats.org/officeDocument/2006/relationships/slide" Target="slide50.xml"/><Relationship Id="rId12" Type="http://schemas.openxmlformats.org/officeDocument/2006/relationships/slide" Target="slide50.xml"/><Relationship Id="rId13" Type="http://schemas.openxmlformats.org/officeDocument/2006/relationships/slide" Target="slide50.xml"/><Relationship Id="rId14" Type="http://schemas.openxmlformats.org/officeDocument/2006/relationships/slide" Target="slide50.xml"/><Relationship Id="rId15" Type="http://schemas.openxmlformats.org/officeDocument/2006/relationships/slide" Target="slide50.xml"/><Relationship Id="rId16" Type="http://schemas.openxmlformats.org/officeDocument/2006/relationships/slide" Target="slide50.xml"/><Relationship Id="rId17" Type="http://schemas.openxmlformats.org/officeDocument/2006/relationships/slide" Target="slide50.xml"/><Relationship Id="rId18" Type="http://schemas.openxmlformats.org/officeDocument/2006/relationships/slide" Target="slide50.xml"/><Relationship Id="rId19" Type="http://schemas.openxmlformats.org/officeDocument/2006/relationships/slide" Target="slide40.xml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8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8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5.xml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slide" Target="slide56.xml"/><Relationship Id="rId6" Type="http://schemas.openxmlformats.org/officeDocument/2006/relationships/slide" Target="slide56.xml"/><Relationship Id="rId7" Type="http://schemas.openxmlformats.org/officeDocument/2006/relationships/image" Target="../media/image33.jpeg"/><Relationship Id="rId8" Type="http://schemas.openxmlformats.org/officeDocument/2006/relationships/slide" Target="slide45.xml"/><Relationship Id="rId9" Type="http://schemas.openxmlformats.org/officeDocument/2006/relationships/image" Target="../media/image16.png"/><Relationship Id="rId10" Type="http://schemas.openxmlformats.org/officeDocument/2006/relationships/slide" Target="slide52.xml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3.xml"/><Relationship Id="rId3" Type="http://schemas.openxmlformats.org/officeDocument/2006/relationships/slide" Target="slide54.xml"/><Relationship Id="rId4" Type="http://schemas.openxmlformats.org/officeDocument/2006/relationships/slide" Target="slide47.xml"/><Relationship Id="rId5" Type="http://schemas.openxmlformats.org/officeDocument/2006/relationships/image" Target="../media/image19.png"/><Relationship Id="rId6" Type="http://schemas.openxmlformats.org/officeDocument/2006/relationships/slide" Target="slide45.xml"/><Relationship Id="rId7" Type="http://schemas.openxmlformats.org/officeDocument/2006/relationships/image" Target="../media/image16.png"/><Relationship Id="rId8" Type="http://schemas.openxmlformats.org/officeDocument/2006/relationships/slide" Target="slide5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2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2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1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7.xml"/><Relationship Id="rId3" Type="http://schemas.openxmlformats.org/officeDocument/2006/relationships/image" Target="../media/image4.png"/><Relationship Id="rId4" Type="http://schemas.openxmlformats.org/officeDocument/2006/relationships/slide" Target="slide51.xm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6.xml"/><Relationship Id="rId3" Type="http://schemas.openxmlformats.org/officeDocument/2006/relationships/image" Target="../media/image19.png"/><Relationship Id="rId4" Type="http://schemas.openxmlformats.org/officeDocument/2006/relationships/slide" Target="slide51.xml"/><Relationship Id="rId5" Type="http://schemas.openxmlformats.org/officeDocument/2006/relationships/image" Target="../media/image16.png"/><Relationship Id="rId6" Type="http://schemas.openxmlformats.org/officeDocument/2006/relationships/slide" Target="slide58.xml"/><Relationship Id="rId7" Type="http://schemas.openxmlformats.org/officeDocument/2006/relationships/image" Target="../media/image13.png"/><Relationship Id="rId8" Type="http://schemas.openxmlformats.org/officeDocument/2006/relationships/slide" Target="slide58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5.xml"/><Relationship Id="rId3" Type="http://schemas.openxmlformats.org/officeDocument/2006/relationships/image" Target="../media/image16.png"/><Relationship Id="rId4" Type="http://schemas.openxmlformats.org/officeDocument/2006/relationships/slide" Target="slide59.xml"/><Relationship Id="rId5" Type="http://schemas.openxmlformats.org/officeDocument/2006/relationships/image" Target="../media/image13.png"/><Relationship Id="rId6" Type="http://schemas.openxmlformats.org/officeDocument/2006/relationships/slide" Target="slide57.xml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slide" Target="slide64.xml"/><Relationship Id="rId6" Type="http://schemas.openxmlformats.org/officeDocument/2006/relationships/slide" Target="slide45.xml"/><Relationship Id="rId7" Type="http://schemas.openxmlformats.org/officeDocument/2006/relationships/image" Target="../media/image16.png"/><Relationship Id="rId8" Type="http://schemas.openxmlformats.org/officeDocument/2006/relationships/slide" Target="slide61.xml"/><Relationship Id="rId9" Type="http://schemas.openxmlformats.org/officeDocument/2006/relationships/image" Target="../media/image13.png"/><Relationship Id="rId10" Type="http://schemas.openxmlformats.org/officeDocument/2006/relationships/slide" Target="slide60.xml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4.xml"/><Relationship Id="rId10" Type="http://schemas.openxmlformats.org/officeDocument/2006/relationships/image" Target="../media/image16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5.xml"/><Relationship Id="rId3" Type="http://schemas.openxmlformats.org/officeDocument/2006/relationships/image" Target="../media/image16.png"/><Relationship Id="rId4" Type="http://schemas.openxmlformats.org/officeDocument/2006/relationships/slide" Target="slide59.xm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" Target="slide59.xml"/><Relationship Id="rId4" Type="http://schemas.openxmlformats.org/officeDocument/2006/relationships/image" Target="../media/image16.png"/><Relationship Id="rId5" Type="http://schemas.openxmlformats.org/officeDocument/2006/relationships/slide" Target="slide62.xm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slide" Target="slide65.xml"/><Relationship Id="rId4" Type="http://schemas.openxmlformats.org/officeDocument/2006/relationships/image" Target="../media/image13.png"/><Relationship Id="rId5" Type="http://schemas.openxmlformats.org/officeDocument/2006/relationships/slide" Target="slide59.xm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slide" Target="slide59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slide" Target="slide59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6.xml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slide" Target="slide69.xml"/><Relationship Id="rId6" Type="http://schemas.openxmlformats.org/officeDocument/2006/relationships/slide" Target="slide71.xml"/><Relationship Id="rId7" Type="http://schemas.openxmlformats.org/officeDocument/2006/relationships/slide" Target="slide74.xml"/><Relationship Id="rId8" Type="http://schemas.openxmlformats.org/officeDocument/2006/relationships/slide" Target="slide83.xml"/><Relationship Id="rId9" Type="http://schemas.openxmlformats.org/officeDocument/2006/relationships/slide" Target="slide84.xml"/><Relationship Id="rId10" Type="http://schemas.openxmlformats.org/officeDocument/2006/relationships/slide" Target="slide85.xml"/><Relationship Id="rId11" Type="http://schemas.openxmlformats.org/officeDocument/2006/relationships/slide" Target="slide3.xml"/><Relationship Id="rId12" Type="http://schemas.openxmlformats.org/officeDocument/2006/relationships/image" Target="../media/image16.png"/><Relationship Id="rId13" Type="http://schemas.openxmlformats.org/officeDocument/2006/relationships/slide" Target="slide70.xml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5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jpeg"/><Relationship Id="rId3" Type="http://schemas.openxmlformats.org/officeDocument/2006/relationships/slide" Target="slide65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5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0.xml"/><Relationship Id="rId3" Type="http://schemas.openxmlformats.org/officeDocument/2006/relationships/image" Target="../media/image4.png"/><Relationship Id="rId4" Type="http://schemas.openxmlformats.org/officeDocument/2006/relationships/slide" Target="slide65.xm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9.jpeg"/><Relationship Id="rId3" Type="http://schemas.openxmlformats.org/officeDocument/2006/relationships/slide" Target="slide72.xml"/><Relationship Id="rId4" Type="http://schemas.openxmlformats.org/officeDocument/2006/relationships/image" Target="../media/image13.png"/><Relationship Id="rId5" Type="http://schemas.openxmlformats.org/officeDocument/2006/relationships/slide" Target="slide69.xml"/><Relationship Id="rId6" Type="http://schemas.openxmlformats.org/officeDocument/2006/relationships/image" Target="../media/image19.png"/><Relationship Id="rId7" Type="http://schemas.openxmlformats.org/officeDocument/2006/relationships/slide" Target="slide65.xml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0.jpeg"/><Relationship Id="rId3" Type="http://schemas.openxmlformats.org/officeDocument/2006/relationships/slide" Target="slide72.xml"/><Relationship Id="rId4" Type="http://schemas.openxmlformats.org/officeDocument/2006/relationships/image" Target="../media/image4.png"/><Relationship Id="rId5" Type="http://schemas.openxmlformats.org/officeDocument/2006/relationships/slide" Target="slide65.xm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" Target="slide71.xml"/><Relationship Id="rId5" Type="http://schemas.openxmlformats.org/officeDocument/2006/relationships/image" Target="../media/image19.png"/><Relationship Id="rId6" Type="http://schemas.openxmlformats.org/officeDocument/2006/relationships/slide" Target="slide83.xml"/><Relationship Id="rId7" Type="http://schemas.openxmlformats.org/officeDocument/2006/relationships/image" Target="../media/image13.png"/><Relationship Id="rId8" Type="http://schemas.openxmlformats.org/officeDocument/2006/relationships/slide" Target="slide65.xml"/><Relationship Id="rId9" Type="http://schemas.openxmlformats.org/officeDocument/2006/relationships/image" Target="../media/image16.png"/><Relationship Id="rId10" Type="http://schemas.openxmlformats.org/officeDocument/2006/relationships/slide" Target="slide73.xml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3.jpeg"/><Relationship Id="rId3" Type="http://schemas.openxmlformats.org/officeDocument/2006/relationships/slide" Target="slide65.xml"/><Relationship Id="rId4" Type="http://schemas.openxmlformats.org/officeDocument/2006/relationships/image" Target="../media/image16.png"/><Relationship Id="rId5" Type="http://schemas.openxmlformats.org/officeDocument/2006/relationships/slide" Target="slide72.xm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5.xml"/><Relationship Id="rId3" Type="http://schemas.openxmlformats.org/officeDocument/2006/relationships/image" Target="../media/image4.png"/><Relationship Id="rId4" Type="http://schemas.openxmlformats.org/officeDocument/2006/relationships/slide" Target="slide65.xm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4.xml"/><Relationship Id="rId3" Type="http://schemas.openxmlformats.org/officeDocument/2006/relationships/image" Target="../media/image19.png"/><Relationship Id="rId4" Type="http://schemas.openxmlformats.org/officeDocument/2006/relationships/slide" Target="slide76.xml"/><Relationship Id="rId5" Type="http://schemas.openxmlformats.org/officeDocument/2006/relationships/image" Target="../media/image4.png"/><Relationship Id="rId6" Type="http://schemas.openxmlformats.org/officeDocument/2006/relationships/slide" Target="slide65.xml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7.xml"/><Relationship Id="rId3" Type="http://schemas.openxmlformats.org/officeDocument/2006/relationships/slide" Target="slide79.xml"/><Relationship Id="rId4" Type="http://schemas.openxmlformats.org/officeDocument/2006/relationships/slide" Target="slide81.xml"/><Relationship Id="rId5" Type="http://schemas.openxmlformats.org/officeDocument/2006/relationships/slide" Target="slide65.xml"/><Relationship Id="rId6" Type="http://schemas.openxmlformats.org/officeDocument/2006/relationships/image" Target="../media/image16.png"/><Relationship Id="rId7" Type="http://schemas.openxmlformats.org/officeDocument/2006/relationships/slide" Target="slide75.xml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6.xml"/><Relationship Id="rId3" Type="http://schemas.openxmlformats.org/officeDocument/2006/relationships/image" Target="../media/image16.png"/><Relationship Id="rId4" Type="http://schemas.openxmlformats.org/officeDocument/2006/relationships/slide" Target="slide78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7.xml"/><Relationship Id="rId3" Type="http://schemas.openxmlformats.org/officeDocument/2006/relationships/image" Target="../media/image19.png"/><Relationship Id="rId4" Type="http://schemas.openxmlformats.org/officeDocument/2006/relationships/slide" Target="slide76.xm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6.xml"/><Relationship Id="rId3" Type="http://schemas.openxmlformats.org/officeDocument/2006/relationships/image" Target="../media/image16.png"/><Relationship Id="rId4" Type="http://schemas.openxmlformats.org/officeDocument/2006/relationships/slide" Target="slide80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6.xml"/><Relationship Id="rId3" Type="http://schemas.openxmlformats.org/officeDocument/2006/relationships/image" Target="../media/image16.png"/><Relationship Id="rId4" Type="http://schemas.openxmlformats.org/officeDocument/2006/relationships/slide" Target="slide79.xm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6.xml"/><Relationship Id="rId3" Type="http://schemas.openxmlformats.org/officeDocument/2006/relationships/image" Target="../media/image16.png"/><Relationship Id="rId4" Type="http://schemas.openxmlformats.org/officeDocument/2006/relationships/slide" Target="slide82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6.xml"/><Relationship Id="rId3" Type="http://schemas.openxmlformats.org/officeDocument/2006/relationships/image" Target="../media/image16.png"/><Relationship Id="rId4" Type="http://schemas.openxmlformats.org/officeDocument/2006/relationships/slide" Target="slide81.xm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4.jpeg"/><Relationship Id="rId3" Type="http://schemas.openxmlformats.org/officeDocument/2006/relationships/slide" Target="slide87.xml"/><Relationship Id="rId4" Type="http://schemas.openxmlformats.org/officeDocument/2006/relationships/image" Target="../media/image13.png"/><Relationship Id="rId5" Type="http://schemas.openxmlformats.org/officeDocument/2006/relationships/slide" Target="slide65.xm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5.jpeg"/><Relationship Id="rId3" Type="http://schemas.openxmlformats.org/officeDocument/2006/relationships/slide" Target="slide65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6.xml"/><Relationship Id="rId3" Type="http://schemas.openxmlformats.org/officeDocument/2006/relationships/image" Target="../media/image4.png"/><Relationship Id="rId4" Type="http://schemas.openxmlformats.org/officeDocument/2006/relationships/slide" Target="slide65.xm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5.xml"/><Relationship Id="rId3" Type="http://schemas.openxmlformats.org/officeDocument/2006/relationships/image" Target="../media/image19.png"/><Relationship Id="rId4" Type="http://schemas.openxmlformats.org/officeDocument/2006/relationships/slide" Target="slide65.xml"/><Relationship Id="rId5" Type="http://schemas.openxmlformats.org/officeDocument/2006/relationships/image" Target="../media/image16.png"/><Relationship Id="rId6" Type="http://schemas.openxmlformats.org/officeDocument/2006/relationships/slide" Target="slide87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6.jpeg"/><Relationship Id="rId3" Type="http://schemas.openxmlformats.org/officeDocument/2006/relationships/slide" Target="slide91.xml"/><Relationship Id="rId4" Type="http://schemas.openxmlformats.org/officeDocument/2006/relationships/image" Target="../media/image13.png"/><Relationship Id="rId5" Type="http://schemas.openxmlformats.org/officeDocument/2006/relationships/slide" Target="slide65.xml"/><Relationship Id="rId6" Type="http://schemas.openxmlformats.org/officeDocument/2006/relationships/image" Target="../media/image16.png"/><Relationship Id="rId7" Type="http://schemas.openxmlformats.org/officeDocument/2006/relationships/slide" Target="slide86.xml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9.xml"/><Relationship Id="rId3" Type="http://schemas.openxmlformats.org/officeDocument/2006/relationships/slide" Target="slide100.xml"/><Relationship Id="rId4" Type="http://schemas.openxmlformats.org/officeDocument/2006/relationships/slide" Target="slide100.xml"/><Relationship Id="rId5" Type="http://schemas.openxmlformats.org/officeDocument/2006/relationships/slide" Target="slide3.xm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90.xml"/><Relationship Id="rId3" Type="http://schemas.openxmlformats.org/officeDocument/2006/relationships/image" Target="../media/image47.jpeg"/><Relationship Id="rId4" Type="http://schemas.openxmlformats.org/officeDocument/2006/relationships/slide" Target="slide92.xml"/><Relationship Id="rId5" Type="http://schemas.openxmlformats.org/officeDocument/2006/relationships/slide" Target="slide90.xml"/><Relationship Id="rId6" Type="http://schemas.openxmlformats.org/officeDocument/2006/relationships/image" Target="../media/image4.png"/><Relationship Id="rId7" Type="http://schemas.openxmlformats.org/officeDocument/2006/relationships/slide" Target="slide88.xml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5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8.jpeg"/><Relationship Id="rId3" Type="http://schemas.openxmlformats.org/officeDocument/2006/relationships/slide" Target="slide88.xml"/><Relationship Id="rId4" Type="http://schemas.openxmlformats.org/officeDocument/2006/relationships/image" Target="../media/image16.png"/><Relationship Id="rId5" Type="http://schemas.openxmlformats.org/officeDocument/2006/relationships/slide" Target="slide91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" Target="slide89.xml"/><Relationship Id="rId9" Type="http://schemas.openxmlformats.org/officeDocument/2006/relationships/image" Target="../media/image16.png"/><Relationship Id="rId10" Type="http://schemas.openxmlformats.org/officeDocument/2006/relationships/slide" Target="slide93.xml"/><Relationship Id="rId11" Type="http://schemas.openxmlformats.org/officeDocument/2006/relationships/image" Target="../media/image13.png"/><Relationship Id="rId12" Type="http://schemas.openxmlformats.org/officeDocument/2006/relationships/slide" Target="slide90.xml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37.xml"/><Relationship Id="rId15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5.jpeg"/><Relationship Id="rId3" Type="http://schemas.openxmlformats.org/officeDocument/2006/relationships/slide" Target="slide89.xml"/><Relationship Id="rId4" Type="http://schemas.openxmlformats.org/officeDocument/2006/relationships/image" Target="../media/image16.png"/><Relationship Id="rId5" Type="http://schemas.openxmlformats.org/officeDocument/2006/relationships/slide" Target="slide94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6.jpeg"/><Relationship Id="rId3" Type="http://schemas.openxmlformats.org/officeDocument/2006/relationships/slide" Target="slide89.xml"/><Relationship Id="rId4" Type="http://schemas.openxmlformats.org/officeDocument/2006/relationships/image" Target="../media/image19.png"/><Relationship Id="rId5" Type="http://schemas.openxmlformats.org/officeDocument/2006/relationships/slide" Target="slide88.xml"/><Relationship Id="rId6" Type="http://schemas.openxmlformats.org/officeDocument/2006/relationships/image" Target="../media/image16.png"/><Relationship Id="rId7" Type="http://schemas.openxmlformats.org/officeDocument/2006/relationships/slide" Target="slide95.xml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95.xml"/><Relationship Id="rId3" Type="http://schemas.openxmlformats.org/officeDocument/2006/relationships/slide" Target="slide96.xml"/><Relationship Id="rId4" Type="http://schemas.openxmlformats.org/officeDocument/2006/relationships/slide" Target="slide97.xml"/><Relationship Id="rId5" Type="http://schemas.openxmlformats.org/officeDocument/2006/relationships/slide" Target="slide99.xml"/><Relationship Id="rId6" Type="http://schemas.openxmlformats.org/officeDocument/2006/relationships/slide" Target="slide89.xml"/><Relationship Id="rId7" Type="http://schemas.openxmlformats.org/officeDocument/2006/relationships/image" Target="../media/image16.png"/><Relationship Id="rId8" Type="http://schemas.openxmlformats.org/officeDocument/2006/relationships/slide" Target="slide92.xml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7.jpeg"/><Relationship Id="rId3" Type="http://schemas.openxmlformats.org/officeDocument/2006/relationships/slide" Target="slide94.xml"/><Relationship Id="rId4" Type="http://schemas.openxmlformats.org/officeDocument/2006/relationships/image" Target="../media/image16.png"/><Relationship Id="rId5" Type="http://schemas.openxmlformats.org/officeDocument/2006/relationships/slide" Target="slide97.xm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94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8.jpeg"/><Relationship Id="rId3" Type="http://schemas.openxmlformats.org/officeDocument/2006/relationships/slide" Target="slide105.xml"/><Relationship Id="rId4" Type="http://schemas.openxmlformats.org/officeDocument/2006/relationships/image" Target="../media/image13.png"/><Relationship Id="rId5" Type="http://schemas.openxmlformats.org/officeDocument/2006/relationships/slide" Target="slide94.xml"/><Relationship Id="rId6" Type="http://schemas.openxmlformats.org/officeDocument/2006/relationships/image" Target="../media/image16.png"/><Relationship Id="rId7" Type="http://schemas.openxmlformats.org/officeDocument/2006/relationships/slide" Target="slide98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97.xml"/><Relationship Id="rId3" Type="http://schemas.openxmlformats.org/officeDocument/2006/relationships/image" Target="../media/image19.png"/><Relationship Id="rId4" Type="http://schemas.openxmlformats.org/officeDocument/2006/relationships/slide" Target="slide94.xm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94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6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Arial"/>
              </a:rPr>
              <a:t>ОБУВНЫЕ КОЖИ</a:t>
            </a:r>
            <a:endParaRPr b="1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851280" y="4365720"/>
            <a:ext cx="517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Краткие сведения о производстве кожи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rcRect l="0" t="80037" r="0" b="0"/>
          <a:stretch/>
        </p:blipFill>
        <p:spPr>
          <a:xfrm>
            <a:off x="395280" y="4437000"/>
            <a:ext cx="6521400" cy="1585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093080" y="4797360"/>
            <a:ext cx="180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жировые отложения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1280" y="0"/>
            <a:ext cx="431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40000" y="39060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одкожно-жировой слой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112536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—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нижний слой шкуры, состоящий из пучков коллагеновых волокон, расположенных параллельно поверхности шкуры. Волокна уложены рыхло; пространство между ними заполнено жировыми включениями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Микротопография кожи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612720" y="1268280"/>
            <a:ext cx="7916760" cy="39974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179280" y="5445000"/>
            <a:ext cx="30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а) первый класс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788080" y="5445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в) третий класс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059280" y="54309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б) второй класс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0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ервый класс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2"/>
          <a:srcRect l="0" t="0" r="66355" b="6542"/>
          <a:stretch/>
        </p:blipFill>
        <p:spPr>
          <a:xfrm>
            <a:off x="612720" y="1268280"/>
            <a:ext cx="3543480" cy="496908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4572000" y="1268280"/>
            <a:ext cx="432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Характеризуется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наиболее толстыми пучками коллагеновых волокон, плотно прилегающими друг к другу и густо переплетающимися в различных плоскостях и направлениях с образованием ромбовидных петел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0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Второй класс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2"/>
          <a:srcRect l="33656" t="0" r="33629" b="8092"/>
          <a:stretch/>
        </p:blipFill>
        <p:spPr>
          <a:xfrm>
            <a:off x="469800" y="1268280"/>
            <a:ext cx="3544920" cy="502632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4211640" y="1268280"/>
            <a:ext cx="475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уменьшение угла наклона сплетения пучков волокон между собой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уменьшается количество ромбовидных петель; эти петли постепенно сменяются перекрещивающимися наклонными пучкам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1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569960" y="38088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Третий класс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2"/>
          <a:srcRect l="66371" t="0" r="0" b="8092"/>
          <a:stretch/>
        </p:blipFill>
        <p:spPr>
          <a:xfrm>
            <a:off x="611280" y="1268280"/>
            <a:ext cx="3544920" cy="489132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4572000" y="1268280"/>
            <a:ext cx="4321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число ромбовидных петель становится еще меньше, сплетение приобретает явно горизонтальное направление;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пучки волокон при этом заметно утончаются, и соединение их между собой ослабевае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1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250920" y="3906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Распределение различных классов строения сетчатого слоя дермы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012000" y="270828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а) первый класс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012000" y="4149720"/>
            <a:ext cx="31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) третий класс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12000" y="3429000"/>
            <a:ext cx="31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б) второй класс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441360" y="1700280"/>
            <a:ext cx="4130640" cy="460836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 flipH="1">
            <a:off x="2843280" y="2852640"/>
            <a:ext cx="3168720" cy="1440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2556000" y="2923920"/>
            <a:ext cx="3456000" cy="649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851280" y="4365720"/>
            <a:ext cx="2160720" cy="358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2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260360" y="390600"/>
            <a:ext cx="66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Химический состав кожи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547640" y="1139760"/>
            <a:ext cx="6048720" cy="44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Влаг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Жирующие веществ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Минеральные вещества (зола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Гольевое вещество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Вымываемые водой веществ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Связанные дубящие веществ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Кислотность кож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Продубленность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10" action="ppaction://hlinksldjump"/>
              </a:rPr>
              <a:t> кож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2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Влаг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985680" y="1154160"/>
            <a:ext cx="71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Нормальным содержанием влаги в коже по действующим стандартам и техническим условиям принято считать 16%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3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Жирующие веществ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971640" y="1125360"/>
            <a:ext cx="712944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Определяется содержание жиров и жироподобных продуктов, входящих в состав кожи (минеральные масла, мыла, воски и т. п.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С содержанием жирующих веществ в коже связаны ее прочность, тягучесть, твердость, способность поглощать и пропускать сквозь себя воду, износоустойчивость в эксплуатационных условиях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3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Жирующие веществ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985680" y="1139760"/>
            <a:ext cx="71298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оличество жирующих веществ в кожевенных материалах зависит главным образом от их назначения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 верхних хромовых кожах —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от 3 до 10%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 верхних краснодубных кожах —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от 8—10 до 20—25%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 жестких кожах для низа обуви —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от 2 до 6%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4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611280" y="3906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Минеральные вещества (зола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000080" y="1154160"/>
            <a:ext cx="71294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Содержание золы в коже в основном зависит от вида дубления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 коже растительного дубления оно составляет 1—2%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 коже хромо-растительного дубления — 3—5% и более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 коже хромового дубления достигает 10%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-78120"/>
            <a:ext cx="6767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Химический состав шкуры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56000" y="1677960"/>
            <a:ext cx="4032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buClr>
                <a:srgbClr val="0066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Белк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Вод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Жир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Углевод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Минеральные сол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8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611280" y="3906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Минеральные вещества (зола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000080" y="115416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оказатель содержания золы в коже служит преимущественно для контроля правильности проведения отдельных технологических процессов на кожевенных заводах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611280" y="3906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Гольевое вещество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00080" y="1139760"/>
            <a:ext cx="71294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од этим названием подразумевают белковые вещества, перешедшие в кожу из шкуры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Содержание гольевого вещества колеблется от 30—50% в жестких кожах для низа обуви до 50—80% и более в кожах для верха обуви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5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611280" y="3906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Вымываемые водой веществ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985680" y="1139760"/>
            <a:ext cx="71298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 жестких кожах для низа обуви содержание вымываемых водой веществ составляет 15—20%,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 обувной юфти — 4—6%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Кожи с повышенным содержанием вымываемых водой большей частью обладают худшими технологическими и эксплуатационными свойствами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611280" y="3999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вязанные дубящие веществ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03280" y="1066680"/>
            <a:ext cx="6408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Коэффициент 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продублённости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оставляет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 юфтевых кожах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20—4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 жестких кожах для низа обуви —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60—75 и более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5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11280" y="3906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Коэффициент продубленности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006560" y="330048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Д — содержание в коже связанных дубящих веществ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Г — содержание в коже гольевого вещества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 —  коэффициент продубленност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916360" y="2060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716360" y="17002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14920" y="24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635280" y="2421000"/>
            <a:ext cx="50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635280" y="2276640"/>
            <a:ext cx="50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386240" y="2349360"/>
            <a:ext cx="9777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6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611280" y="3906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Кислотность кожи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971640" y="112536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рН хлоркалиевой или водной вытяжки краснодубных кожевенных материалов должно находиться в пределах 3,5—5,5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11280" y="3808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Продубленность кожи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971640" y="1139760"/>
            <a:ext cx="7200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родубленность кожи по ее температуре сваривания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Температура сваривания сырой шкуры 55—60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Температура сваривания а кожи — в зависимости от вида дубления и степени продубленности — в пределах от 60 до 100° и более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611280" y="3808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Температура сваривания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971640" y="1125360"/>
            <a:ext cx="72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Определение температуры сваривания заключается в том, что термометр с привязанной к нему полоской кожи длиной около 50 мм и шириной 3 мм вносят в стакан с водой, а затем медленно подогревают последнюю и наблюдают температуру, при которой полоска кожи начнет стягиваться или завертываться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47840" y="124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войства кожи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71640" y="1341360"/>
            <a:ext cx="72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Качество кожи характеризуется показателями физико-механических свойств, важнейшими из которых являются следующие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71640" y="3716280"/>
            <a:ext cx="720072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Толщин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Воздухопроницаемост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Паропроницаемост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Водостойкост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6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7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47840" y="124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войства кожи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71640" y="1268280"/>
            <a:ext cx="720072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Водопромокаемост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Водопроницаемост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Прочность лицевого сло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Удлинени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Термостойкост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Сваривани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8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11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419640" y="39060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Белки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40360" y="1125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95%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1844640"/>
            <a:ext cx="2158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КОЛЛАГЕНЫ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КЕРАТИНЫ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ЭЛАСТИНЫ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РЕТИКУЛИНЫ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95640" y="1844640"/>
            <a:ext cx="5472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АЛЬБУМИНЫ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ГЛОБУЛИНЫ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МУЦИНЫ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МУКОИДЫ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5640" y="418608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Цепочечное (волокнистое) строени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4186080"/>
            <a:ext cx="32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Глобулярное (шаровидное)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строени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Толщина кожи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971640" y="1319040"/>
            <a:ext cx="7200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Толщина хромовых кож дл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ерха обуви — 0,4— 2,5 мм,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юфти — 1,5—3мм,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кож для низа обуви — от 1,5 до 5—6 мм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От толщины зависит назначение кожи при раскрое на детали, а также все физико-механические свойства кожи (жесткость, устойчивость к истиранию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Воздухопроницаемость кожи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оздухопроницаемость кожи зависит, прежде всего, от её толщины и пористости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се виды покрывного крашения снижают воздухопроницаемость, что связано с закупоркой пор кожи покрывными пленками.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23720" y="709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Паропроницаемость кожи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460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аропроницаемость кожи нельзя отождествлять с ее воздухопроницаемостью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Для прохождения воздуха через кожу служат сквозные поры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Для прохождения же пара имеется и другой путь — диффузия по кожевенному волокну.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Водостойкость кожи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1584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одостойкость кожи характеризуется ее способностью поглощать и пропускать влагу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пособность кожи пропускать влагу характеризуется двумя показателями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одопромокаемостью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и водопроницаемостью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2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Водопромокаемость кожи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змеряется временем, необходимым для сквозного проникновения воды через воздушно-сухую кожу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Водопроницаемость кожи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1538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Измеряется количеством воды, прошедшим за единицу времени через предварительно размоченный образец кожи.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9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рочность лицевого слоя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095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рочность лицевого слоя при растяжении характеризуется величиной напряжения на единицу поперечного сечения образца, при котором на лицевом слое кожи появляются трещины. Прочность лицевого слоя связана с эластичностью кожевенных волокон в этом слое.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2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Удлинение кожи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1538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Удлинение кожи  определяет прежде всего формовочные свойства этого материала, а также эксплуатационные свойства обуви — сохранение формы обуви в процессе ее носки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Термостойкость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42800" y="11397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Термостойкость характеризует устойчивость кожи к воздействию высоких температур, которому она подвергается при проведении многих операций кожевенно-обувного производства, а также при носке обуви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2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80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варивание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варивание проявляется в уменьшении длины образца при нагревании во влажной среде до момента достижения определенной температуры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955600" y="131400"/>
            <a:ext cx="309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Коллаген 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7280" y="105264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—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основной белок шкуры, который остается и в готовой коже.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1052640"/>
            <a:ext cx="144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8360" y="2770200"/>
            <a:ext cx="82803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олипептидная цепь молекулы коллагена содержат примерно 1000 аминокислотных остатков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Основные 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АК:_x000b_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глицин (33 %)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ролин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лизин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378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варивание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168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Температура сваривания является -показателем прочности и устойчивости внутренней структуры кожи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 наибольшей степени она зависит от способа дубления: кожа жирового дубления имеет температуру сваривания 65°С, растительного дубления — 70—85, хромового —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до 130, формальдегидного — 90°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3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4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000"/>
            <a:ext cx="8229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Об авторе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3"/>
          <a:stretch/>
        </p:blipFill>
        <p:spPr>
          <a:xfrm>
            <a:off x="2862360" y="1143000"/>
            <a:ext cx="3419280" cy="457200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611280" y="1984320"/>
            <a:ext cx="187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ученица 11 а класс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804000" y="198900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школа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№ 31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266920" y="6021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Arial"/>
              </a:rPr>
              <a:t>Браславская Мария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39640" y="115920"/>
            <a:ext cx="2880000" cy="6645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635280" y="1052640"/>
            <a:ext cx="48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четыре уровня организации коллагеновых волокон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молекулы тропоколлагена (1),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ротофибриллы (2),</a:t>
            </a:r>
            <a:br>
              <a:rPr sz="2800"/>
            </a:b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фибриллы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(3) и 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олокна (4).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249200" y="1773360"/>
            <a:ext cx="6645600" cy="4897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006560" y="3906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Коллагеновая фибрилл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89080" y="1125360"/>
            <a:ext cx="74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Электронная микрофотография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011400" y="38592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Коллаген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28760" y="1125360"/>
            <a:ext cx="2882880" cy="20066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3311640" y="2781360"/>
            <a:ext cx="2519280" cy="20098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5796000" y="4365720"/>
            <a:ext cx="2635200" cy="20034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116000" y="30621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17,8%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N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22560" y="47912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17,4%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659640" y="623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17,0%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862280" y="3938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войства коллаген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9280" y="1052640"/>
            <a:ext cx="77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малая растяжимост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большая прочность на разрыв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ысокая способность к набуханию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легкая загниваемость во влажном состоянии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пособность при определенных условиях перевариваться ферментами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63640" y="9504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Эластиновые волокна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186920"/>
            <a:ext cx="82296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Эластиновые волокна состоят из белка, известного под названием эластина. В отличие от коллагеновых эластиновые волокна не соединяются в пучки и характеризуются меньшей толщиной, большей прямизной и высокой эластичностью.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91920" y="9504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Ретикулиновые волокна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7280" y="1187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Ретикулиновые волокна представляют собой короткие и очень тонкие волоконца, соединяющиеся в пучки. Они пронизывают всю толщу дермы, образуя на границе с эпидермисом густую плотную сетку.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08000" y="2438280"/>
            <a:ext cx="2508120" cy="1981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108240" y="115920"/>
            <a:ext cx="2882880" cy="2006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148360" y="4653000"/>
            <a:ext cx="2857320" cy="2058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1258920" y="4653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3311640" y="2424240"/>
            <a:ext cx="2519280" cy="2009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6084720" y="115920"/>
            <a:ext cx="2883240" cy="2171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108000" y="115920"/>
            <a:ext cx="2895480" cy="2200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6443640" y="2446200"/>
            <a:ext cx="2521080" cy="1965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33280" y="104400"/>
            <a:ext cx="1457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Вода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5600" y="1165320"/>
            <a:ext cx="381636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 парной шкуре содержится от 50 до 70% влаги, в зависимости от вида, возраста и топографического участка шкуры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Часть влаги прочно связана с полярными группами белка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384720" cy="47545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00000" y="1341360"/>
            <a:ext cx="0" cy="4319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5661000"/>
            <a:ext cx="75596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03280" y="981000"/>
            <a:ext cx="5256360" cy="4392720"/>
          </a:xfrm>
          <a:custGeom>
            <a:avLst/>
            <a:gdLst/>
            <a:ahLst/>
            <a:rect l="l" t="t" r="r" b="b"/>
            <a:pathLst>
              <a:path w="3311" h="2767">
                <a:moveTo>
                  <a:pt x="0" y="2767"/>
                </a:moveTo>
                <a:cubicBezTo>
                  <a:pt x="518" y="2691"/>
                  <a:pt x="1036" y="2616"/>
                  <a:pt x="1452" y="2404"/>
                </a:cubicBezTo>
                <a:cubicBezTo>
                  <a:pt x="1868" y="2192"/>
                  <a:pt x="2215" y="1830"/>
                  <a:pt x="2495" y="1497"/>
                </a:cubicBezTo>
                <a:cubicBezTo>
                  <a:pt x="2775" y="1164"/>
                  <a:pt x="2994" y="658"/>
                  <a:pt x="3130" y="408"/>
                </a:cubicBezTo>
                <a:cubicBezTo>
                  <a:pt x="3266" y="158"/>
                  <a:pt x="3281" y="68"/>
                  <a:pt x="3311" y="0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908000" y="4437000"/>
            <a:ext cx="1116360" cy="10796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rcRect l="0" t="0" r="0" b="26687"/>
          <a:stretch/>
        </p:blipFill>
        <p:spPr>
          <a:xfrm>
            <a:off x="5148360" y="2349360"/>
            <a:ext cx="1303200" cy="7207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3860640" y="3573360"/>
            <a:ext cx="1420920" cy="10796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6012000" y="620640"/>
            <a:ext cx="1331640" cy="10699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835280" y="3906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Жиры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26920" y="126828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1,5 - 40%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8560" y="115560"/>
            <a:ext cx="266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Углеводы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1016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Углеводы содержатся не только в глюкопротеидах эпидермиса и в межуточных белках — муцинах, но и в структуре коллагена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32000" y="12348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Основные аминокислоты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87280" y="28414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глицин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2852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ролин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95640" y="5867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лизин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93560" y="13284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Консервирование шкуры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34920" y="1154160"/>
            <a:ext cx="727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Для предохранения парной шкуры от бактериального и ферментативного разложения.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и консервировании шкуры в ней создаются условия, неблагоприятные для развития бактерий и воздействия их и ферментов на белковые вещества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317520" y="1484280"/>
          <a:ext cx="8507520" cy="4846680"/>
        </p:xfrm>
        <a:graphic>
          <a:graphicData uri="http://schemas.openxmlformats.org/drawingml/2006/table">
            <a:tbl>
              <a:tblPr/>
              <a:tblGrid>
                <a:gridCol w="4254480"/>
                <a:gridCol w="4253040"/>
              </a:tblGrid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пособ консервирования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иды сырья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66cc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Сушка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есносухое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66cc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Соление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кросоленое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мбинация соления и сушки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ухосоленое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66cc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Замораживание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роженое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187280" y="1305000"/>
            <a:ext cx="6769440" cy="50767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502000" y="40464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Замораживание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652920" y="40464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ушк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8209080" cy="54705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473280" y="395280"/>
            <a:ext cx="21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оление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4321080" cy="32414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250920" y="1125360"/>
            <a:ext cx="4321080" cy="32403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809640" y="39060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одготовительные процессы производства кожи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50920" y="1773360"/>
            <a:ext cx="6840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оизводятся перед дублением для выделения из шкуры дермы и изменения ее микроструктуры и физико-химических свойств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Шкуры, прошедшие подготовительные процессы и операции, в кожевенном производстве называют гольем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16000" y="404640"/>
            <a:ext cx="7201080" cy="59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Гистологическое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 строение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_x000b_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шкуры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животного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Химический состав шкур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10" action="ppaction://hlinksldjump"/>
              </a:rPr>
              <a:t>Консервирование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11" action="ppaction://hlinksldjump"/>
              </a:rPr>
              <a:t> 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12" action="ppaction://hlinksldjump"/>
              </a:rPr>
              <a:t>шкур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13" action="ppaction://hlinksldjump"/>
              </a:rPr>
              <a:t>Подготовительные процессы производства кож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14" action="ppaction://hlinksldjump"/>
              </a:rPr>
              <a:t>Дублени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15" action="ppaction://hlinksldjump"/>
              </a:rPr>
              <a:t>Последубильные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16" action="ppaction://hlinksldjump"/>
              </a:rPr>
              <a:t> процесс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17" action="ppaction://hlinksldjump"/>
              </a:rPr>
              <a:t>Строение кож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18" action="ppaction://hlinksldjump"/>
              </a:rPr>
              <a:t>Химический состав кож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19" action="ppaction://hlinksldjump"/>
              </a:rPr>
              <a:t>Свойства кож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20" action="ppaction://hlinksldjump"/>
              </a:rPr>
              <a:t>Об автор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404640"/>
            <a:ext cx="72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1"/>
          <a:stretch/>
        </p:blipFill>
        <p:spPr>
          <a:xfrm>
            <a:off x="8267760" y="0"/>
            <a:ext cx="876240" cy="546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2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773280" y="384120"/>
            <a:ext cx="75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одготовительные процессы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82560" y="1268280"/>
            <a:ext cx="5977080" cy="38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Отмок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Золение и 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обезволашивани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Мездрени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Сгонка шерст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Чистка лиц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Двоени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Чепраковани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Обеззоливание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10" action="ppaction://hlinksldjump"/>
              </a:rPr>
              <a:t> и 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11" action="ppaction://hlinksldjump"/>
              </a:rPr>
              <a:t>мягчени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12" action="ppaction://hlinksldjump"/>
              </a:rPr>
              <a:t>Пикелевание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13" action="ppaction://hlinksldjump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9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456000" y="393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Отмок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7280" y="1066680"/>
            <a:ext cx="856944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заключается в обработке кожевенного сырья чистой водой или с добавлением антисептиков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цель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– приведение консервированных шкур в состояние, близкое к парному по обводненности и микроструктуре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родолжительность отмоки составляет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для мокросоленого – 4 — 48 час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для пресносухого – 24 — 60 час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112920" y="399960"/>
            <a:ext cx="28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Золение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0920" y="1138320"/>
            <a:ext cx="86421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оцесс обработки шкур водной суспензией извести (известковым молоком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одолжительность золения колеблется от 48 до 120 часов, а дополнительного (после сгонки шерсти) обжорного золения —от 36 до 48 час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2095560" y="3705120"/>
            <a:ext cx="4932360" cy="30466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490920" y="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Золение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620640"/>
            <a:ext cx="8964720" cy="67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 процессе золения под действием щелочей шкуры претерпевают большие изменения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белковые вещества слизистого слоя эпидермиса и волосяные луковицы распадаются                                                               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нарушается связь эпидермиса и волоса с дермой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межволоконные белковые вещества растворяются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оллагеновые волокна расщепляются на более тонкие структурные элементы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се эти изменения приводят к общему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разрыхлению волокнистой структуры дермы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203640" y="3841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Мездрение</a:t>
            </a:r>
            <a:r>
              <a:rPr b="0" i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-14400" y="1130400"/>
            <a:ext cx="918216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отделение подкожной клетчатки (мездры) от дерм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Для отделения (срезания и сдирания) подкожной клетчатки со шкур и голья используют мездрильные машины разной конструкции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755640" y="3828960"/>
            <a:ext cx="2081160" cy="27687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4572000" y="353700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664000" y="393840"/>
            <a:ext cx="38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гонка шерсти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19280" y="1154160"/>
            <a:ext cx="770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Ее выполняют на машинах, которые отличаются от мездрильных только тем, что у них ножевые валы вращаются с меньшим числом оборотов, а ножи затуплены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914560" y="384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Чистка лица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4560" y="113976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Цель ее — получение кожи с чистым, гладким и нежным лицом. Сущность этой операции в основном заключается в выдавливании из голья остатков волоса, эпидермиса и загрязнений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843280" y="3841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Чепракование</a:t>
            </a:r>
            <a:r>
              <a:rPr b="0" i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68360" y="1154160"/>
            <a:ext cx="52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разделение голья шкур на четыре отдельные части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26920" y="5484960"/>
            <a:ext cx="853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Голье свиных шкур зачастую подвергают так называемому рыбкованию, т. е. разделению на три части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55640" y="2060640"/>
            <a:ext cx="3263760" cy="35989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5580000" y="1341360"/>
            <a:ext cx="3198960" cy="36003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295280" y="3938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Обеззоливание и мягчение</a:t>
            </a:r>
            <a:r>
              <a:rPr b="0" i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19280" y="1154160"/>
            <a:ext cx="7704000" cy="44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ля удаления поглощенной извести обрабатывают раствором сернокислого аммония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H</a:t>
            </a:r>
            <a:r>
              <a:rPr b="0" i="1" lang="ru-RU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i="1" lang="ru-RU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O</a:t>
            </a:r>
            <a:r>
              <a:rPr b="0" i="1" lang="ru-RU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, который, взаимодействуя с известью, образует легко вымываемый из голья сернокислый кальций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CaSO</a:t>
            </a:r>
            <a:r>
              <a:rPr b="0" i="1" lang="ru-RU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H</a:t>
            </a:r>
            <a:r>
              <a:rPr b="0" i="1" lang="ru-RU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i="1" lang="ru-RU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O</a:t>
            </a:r>
            <a:r>
              <a:rPr b="0" i="1" lang="ru-RU" sz="2400" spc="-1" strike="noStrike" baseline="-25000">
                <a:solidFill>
                  <a:srgbClr val="000066"/>
                </a:solidFill>
                <a:latin typeface="Arial"/>
              </a:rPr>
              <a:t>4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+ Са(ОН)</a:t>
            </a:r>
            <a:r>
              <a:rPr b="0" i="1" lang="ru-RU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CaSO</a:t>
            </a:r>
            <a:r>
              <a:rPr b="0" i="1" lang="ru-RU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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+ 2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H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Продолжительность мягчения зависит от вида обрабатываемого голья и его назначения: от 10 мин. до 5 час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879640" y="387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Пикелевание</a:t>
            </a:r>
            <a:r>
              <a:rPr b="0" i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1280" y="1104840"/>
            <a:ext cx="79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кислотно-солевая обработка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Цель — подготовить голье к хромовому дублению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ля пикелевания голья применяется водный раствор поваренной соли и серной кислоты примерно в следующих соотношениях (вес. ч.)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поваренная соль — 5—8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серная кислота (100%-ная) —0,5—1,3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ода — 100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лительность пикелевания составляет от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1 до 14 час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355840" y="476280"/>
            <a:ext cx="4432320" cy="5397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55640" y="836640"/>
            <a:ext cx="2411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I</a:t>
            </a:r>
            <a:r>
              <a:rPr b="0" lang="ru-RU" sz="20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- эпидермис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48360" y="741240"/>
            <a:ext cx="2484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V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-базальная мембрана (лицо кожи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59640" y="1808280"/>
            <a:ext cx="24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-сосочковый слой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88000" y="3429000"/>
            <a:ext cx="255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I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-сетчатый слой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5013360"/>
            <a:ext cx="2087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II</a:t>
            </a:r>
            <a:r>
              <a:rPr b="0" lang="ru-RU" sz="20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-подкожная жировая ткань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2852640"/>
            <a:ext cx="187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II</a:t>
            </a:r>
            <a:r>
              <a:rPr b="0" lang="ru-RU" sz="20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-дерма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203640" y="3920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Дубление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836720" y="1130400"/>
            <a:ext cx="54720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Определени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Исходные материал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Виды дублени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987640" y="3906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Дубление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5640" y="1906560"/>
            <a:ext cx="770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кислотно-солевая обработка подготовленных определённым образом шкур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Сущность процесса дубления заключается в введении в подготовленное голье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веществ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, изменяющих свойства голья, превращающих его в кожу.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4360" y="39060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Характерные особенности дублёных кож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19280" y="1700280"/>
            <a:ext cx="770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1) уменьшение толщины, площади и объема кожи при ее сушке после намокания меньше выражено, чем у обводненного голья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2) пористость высушенной выдубленной кожи превышает пористость высушенного голья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3) набухание кожи в воде меньше, чем набухание голья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4) склеиваемость элементов микроструктуры выдубленной кожи намного меньше, чем у голья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4360" y="39060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Характерные особенности дублёных кож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2800" y="1892160"/>
            <a:ext cx="770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6) деформируемость кожи под действием сил, вызывающих растяжение, сжатие или изгиб, меньшая по сравнению с обводненным гольем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7) прочность выдубленной кожи в обводненном состоянии большая, чем обводненного голья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Из различных видов дубления основное значение в настоящее время имеют хромовое и хромо-растительное дубление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655640" y="39060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Дубящие вещества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106668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неорганические соединени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19640" y="106668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органические соединени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28800" y="2527200"/>
            <a:ext cx="2950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основные соли хрома, алюминия, железа, циркония и других металлов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61160" y="2577960"/>
            <a:ext cx="3240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оединения ароматического ряда — 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танниды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органические соединения жирного ряд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662200" y="404640"/>
            <a:ext cx="38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Виды дубления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0920" y="2133720"/>
          <a:ext cx="8642160" cy="437832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ид дубления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убящие вещества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звание кожи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66cc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хромовое дубление</a:t>
                      </a:r>
                      <a:r>
                        <a:rPr b="0" lang="en-US" sz="2000" spc="-1" strike="noStrike" u="sng">
                          <a:solidFill>
                            <a:srgbClr val="0066cc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сновные соли трехвалентного хрома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хромовые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жи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стительное</a:t>
                      </a:r>
                      <a:br>
                        <a:rPr sz="2000"/>
                      </a:b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убление</a:t>
                      </a:r>
                      <a:r>
                        <a:rPr b="0" i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анниды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раснодубные кожи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66cc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хромово</a:t>
                      </a:r>
                      <a:r>
                        <a:rPr b="0" lang="ru-RU" sz="2000" spc="-1" strike="noStrike" u="sng">
                          <a:solidFill>
                            <a:srgbClr val="0066cc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- растительное дубление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сновные соли трехвалентного хрома, танниды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жировое, или замшевое, дубление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рганические соединения жирного ряда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амша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059280" y="3906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Танниды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12800" y="1096920"/>
            <a:ext cx="77040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о химическому строению неоднородны, однако все они являются многоядерными ароматическими соединениями фенольного характера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откладываются в различных частях растений: в коре, древесине, корнях, листьях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979640" y="3906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Хромовое дубление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0920" y="1341360"/>
            <a:ext cx="86421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убящими свойствами обладают лишь основные соли трехвалентного хрома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Cr(OH)SO</a:t>
            </a:r>
            <a:r>
              <a:rPr b="0" i="1" lang="ru-RU" sz="1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Cr</a:t>
            </a:r>
            <a:r>
              <a:rPr b="0" i="1" lang="ru-RU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(OH)</a:t>
            </a:r>
            <a:r>
              <a:rPr b="0" i="1" lang="ru-RU" sz="1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SO</a:t>
            </a:r>
            <a:r>
              <a:rPr b="0" i="1" lang="ru-RU" sz="1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0920" y="2852640"/>
            <a:ext cx="864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Количественным показателем основности хромовых солей служит выраженное в процентах отношение количества гидроксильных групп, содержащихся в данном хромовом соединении, к общему количеству их, которое мог бы удержать находящийся в этом соединении хром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523880" y="4510080"/>
          <a:ext cx="6096240" cy="2087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оль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сновность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</a:t>
                      </a:r>
                      <a:r>
                        <a:rPr b="0" i="1" lang="en-US" sz="20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SO</a:t>
                      </a:r>
                      <a:r>
                        <a:rPr b="0" i="1" lang="en-US" sz="20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)</a:t>
                      </a:r>
                      <a:r>
                        <a:rPr b="0" i="1" lang="en-US" sz="20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(OH)SO</a:t>
                      </a:r>
                      <a:r>
                        <a:rPr b="0" i="1" lang="ru-RU" sz="20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,3%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</a:t>
                      </a:r>
                      <a:r>
                        <a:rPr b="0" i="1" lang="en-US" sz="20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OH)</a:t>
                      </a:r>
                      <a:r>
                        <a:rPr b="0" i="1" lang="en-US" sz="20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</a:t>
                      </a:r>
                      <a:r>
                        <a:rPr b="0" i="1" lang="en-US" sz="20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6,7%;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r(ОН)</a:t>
                      </a:r>
                      <a:r>
                        <a:rPr b="0" i="1" lang="ru-RU" sz="20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%.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511280" y="387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Исходные материалы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0920" y="1308240"/>
            <a:ext cx="8642160" cy="59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бихромат натрия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Cr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O7 • 2Н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О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бихромат калия: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К</a:t>
            </a:r>
            <a:r>
              <a:rPr b="0" lang="ru-RU" sz="2800" spc="-1" strike="noStrike" u="sng" baseline="-25000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0" lang="ru-RU" sz="2800" spc="-1" strike="noStrike" u="sng" baseline="-25000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Сr</a:t>
            </a:r>
            <a:r>
              <a:rPr b="0" lang="ru-RU" sz="2800" spc="-1" strike="noStrike" u="sng" baseline="-25000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2</a:t>
            </a:r>
            <a:r>
              <a:rPr b="0" lang="ru-RU" sz="2800" spc="-1" strike="noStrike" u="sng" baseline="-25000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О</a:t>
            </a:r>
            <a:r>
              <a:rPr b="0" lang="ru-RU" sz="2800" spc="-1" strike="noStrike" u="sng" baseline="-25000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хромонатриевые квасцы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Cr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(SO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• 24Н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О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хромокалиевые квасцы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K</a:t>
            </a:r>
            <a:r>
              <a:rPr b="0" lang="ru-RU" sz="2800" spc="-1" strike="noStrike" u="sng" baseline="-25000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2</a:t>
            </a:r>
            <a:r>
              <a:rPr b="0" lang="ru-RU" sz="2800" spc="-1" strike="noStrike" u="sng" baseline="-25000">
                <a:solidFill>
                  <a:srgbClr val="0066cc"/>
                </a:solidFill>
                <a:uFillTx/>
                <a:latin typeface="Arial"/>
                <a:hlinkClick r:id="rId10" action="ppaction://hlinksldjump"/>
              </a:rPr>
              <a:t>Cr</a:t>
            </a:r>
            <a:r>
              <a:rPr b="0" lang="ru-RU" sz="2800" spc="-1" strike="noStrike" u="sng" baseline="-25000">
                <a:solidFill>
                  <a:srgbClr val="0066cc"/>
                </a:solidFill>
                <a:uFillTx/>
                <a:latin typeface="Arial"/>
                <a:hlinkClick r:id="rId11" action="ppaction://hlinksldjump"/>
              </a:rPr>
              <a:t>2</a:t>
            </a:r>
            <a:r>
              <a:rPr b="0" lang="ru-RU" sz="2800" spc="-1" strike="noStrike" u="sng" baseline="-25000">
                <a:solidFill>
                  <a:srgbClr val="0066cc"/>
                </a:solidFill>
                <a:uFillTx/>
                <a:latin typeface="Arial"/>
                <a:hlinkClick r:id="rId12" action="ppaction://hlinksldjump"/>
              </a:rPr>
              <a:t>(SO</a:t>
            </a:r>
            <a:r>
              <a:rPr b="0" lang="ru-RU" sz="2800" spc="-1" strike="noStrike" u="sng" baseline="-25000">
                <a:solidFill>
                  <a:srgbClr val="0066cc"/>
                </a:solidFill>
                <a:uFillTx/>
                <a:latin typeface="Arial"/>
                <a:hlinkClick r:id="rId13" action="ppaction://hlinksldjump"/>
              </a:rPr>
              <a:t>4</a:t>
            </a:r>
            <a:r>
              <a:rPr b="0" lang="ru-RU" sz="2800" spc="-1" strike="noStrike" u="sng" baseline="-25000">
                <a:solidFill>
                  <a:srgbClr val="0066cc"/>
                </a:solidFill>
                <a:uFillTx/>
                <a:latin typeface="Arial"/>
                <a:hlinkClick r:id="rId14" action="ppaction://hlinksldjump"/>
              </a:rPr>
              <a:t>)</a:t>
            </a:r>
            <a:r>
              <a:rPr b="0" lang="ru-RU" sz="2800" spc="-1" strike="noStrike" u="sng" baseline="-25000">
                <a:solidFill>
                  <a:srgbClr val="0066cc"/>
                </a:solidFill>
                <a:uFillTx/>
                <a:latin typeface="Arial"/>
                <a:hlinkClick r:id="rId15" action="ppaction://hlinksldjump"/>
              </a:rPr>
              <a:t>4</a:t>
            </a:r>
            <a:r>
              <a:rPr b="0" lang="ru-RU" sz="2800" spc="-1" strike="noStrike" u="sng" baseline="-25000">
                <a:solidFill>
                  <a:srgbClr val="0066cc"/>
                </a:solidFill>
                <a:uFillTx/>
                <a:latin typeface="Arial"/>
                <a:hlinkClick r:id="rId16" action="ppaction://hlinksldjump"/>
              </a:rPr>
              <a:t> • 24Н</a:t>
            </a:r>
            <a:r>
              <a:rPr b="0" lang="ru-RU" sz="2800" spc="-1" strike="noStrike" u="sng" baseline="-25000">
                <a:solidFill>
                  <a:srgbClr val="0066cc"/>
                </a:solidFill>
                <a:uFillTx/>
                <a:latin typeface="Arial"/>
                <a:hlinkClick r:id="rId17" action="ppaction://hlinksldjump"/>
              </a:rPr>
              <a:t>2</a:t>
            </a:r>
            <a:r>
              <a:rPr b="0" lang="ru-RU" sz="2800" spc="-1" strike="noStrike" u="sng" baseline="-25000">
                <a:solidFill>
                  <a:srgbClr val="0066cc"/>
                </a:solidFill>
                <a:uFillTx/>
                <a:latin typeface="Arial"/>
                <a:hlinkClick r:id="rId18" action="ppaction://hlinksldjump"/>
              </a:rPr>
              <a:t>О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монохроматы натрия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i="1" lang="pt-BR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pt-BR" sz="2800" spc="-1" strike="noStrike">
                <a:solidFill>
                  <a:srgbClr val="000066"/>
                </a:solidFill>
                <a:latin typeface="Arial"/>
              </a:rPr>
              <a:t>CrO</a:t>
            </a:r>
            <a:r>
              <a:rPr b="0" i="1" lang="pt-BR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pt-BR" sz="2800" spc="-1" strike="noStrike">
                <a:solidFill>
                  <a:srgbClr val="000066"/>
                </a:solidFill>
                <a:latin typeface="Arial"/>
              </a:rPr>
              <a:t> • 10H</a:t>
            </a:r>
            <a:r>
              <a:rPr b="0" i="1" lang="pt-BR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pt-BR" sz="2800" spc="-1" strike="noStrike">
                <a:solidFill>
                  <a:srgbClr val="000066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монохромат калия</a:t>
            </a:r>
            <a:r>
              <a:rPr b="0" i="1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</a:t>
            </a:r>
            <a:r>
              <a:rPr b="0" i="1" lang="pt-BR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0" i="1" lang="pt-BR" sz="28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О</a:t>
            </a:r>
            <a:r>
              <a:rPr b="0" i="1" lang="pt-BR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7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258920" y="38592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олучение</a:t>
            </a:r>
            <a:br>
              <a:rPr sz="3600"/>
            </a:b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хромовых экстрактов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5640" y="1863720"/>
            <a:ext cx="770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оследовательно прибавление в определенных количествах серной кислоты и глюкозы, патоки или другого восстановителя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растворение в горячей вод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82560" y="4508640"/>
            <a:ext cx="77770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К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Сr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О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+ 3H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SO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+ 3Н </a:t>
            </a:r>
            <a:r>
              <a:rPr b="0" i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2Cr(OH)SO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4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+ K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SO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4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+ 2Н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rcRect l="0" t="0" r="0" b="87041"/>
          <a:stretch/>
        </p:blipFill>
        <p:spPr>
          <a:xfrm>
            <a:off x="108000" y="2205000"/>
            <a:ext cx="8893080" cy="1405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727280" y="4017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Эпидермис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2349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7 - волос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789360"/>
            <a:ext cx="34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8 - переплетение эластиновых,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ретикулиновых и колагенных волокон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42160" y="378936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V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- базальная мембрана (лицо кожи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1125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—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поверхностный слой, расположенный непосредственно под волосяным покровом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3240" y="544032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занимает от 1 до 2% всей толщины шкуры (5% у свиней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258920" y="38592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олучение</a:t>
            </a:r>
            <a:br>
              <a:rPr sz="3600"/>
            </a:b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хромовых экстрактов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5640" y="1878120"/>
            <a:ext cx="770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растворение в горячей вод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ибавление раствора кальцинированной соды Nа2СО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4000" y="4138560"/>
            <a:ext cx="85690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Cr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(SO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• 24Н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О + Na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= K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SO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+ Na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SO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+ 2Cr(OH)SO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+ CO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+ 23H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193840" y="40464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пособы дубления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6800" y="112536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однованное дубление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545080" y="1125360"/>
            <a:ext cx="37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двуванное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 дубление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7"/>
          <a:stretch/>
        </p:blipFill>
        <p:spPr>
          <a:xfrm>
            <a:off x="1536840" y="2492280"/>
            <a:ext cx="6048360" cy="40276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584360" y="3999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Хромовое дубление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82560" y="1844640"/>
            <a:ext cx="59770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250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диффузия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хромовых соединений внутрь голь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связывание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хромовых комплексов с коллагеном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584360" y="39060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Факторы, влияющие на скорость диффузии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692360" y="1844640"/>
            <a:ext cx="5759280" cy="28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2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тепень разрыхления голья в процессах золения, мягчения и пикелевани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основность хромового дубильного сок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538200" y="39060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Факторы, влияющие на связывание с коллагеном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92360" y="1844640"/>
            <a:ext cx="5759280" cy="74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2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основность хромового сок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температура хромового сок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онцентрация соединений хрома в дубильном сок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родолжительность обработки голья дубильным соком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тепень разрыхления коллагена в подготовительных преддубильных процессах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584360" y="3999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Однованное дубление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19280" y="112536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осуществляется в барабанах при непрерывном вращении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71640" y="1628640"/>
            <a:ext cx="7200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ливают хромовый экстракт с основностью 40—42%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через 3 часа после начала дубления добавляют раствор кальцинированной соды (для повышения основности дубильного сока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через 3—4 часа дубления определяют продубленность кож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050920" y="587700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общая продолжительность дубления от 6 до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12 час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5843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Двухванное дубление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19280" y="116856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образование дубящих соединений хрома происходит непосредственно внутри голья с одновременным отложением выделяющейся сер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584360" y="3999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Двухванное дубление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2800" y="1135080"/>
            <a:ext cx="77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 первой, хромирующей, ванне голье пропитывается дихромовой кислотой, образующейся в результате подкисления раствора бихромата соляной или серной кислотой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40000" y="4221000"/>
            <a:ext cx="626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r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О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+ 2HC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= Н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О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7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+ 2KC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584360" y="387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Двухванное дубление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8400" y="1154160"/>
            <a:ext cx="770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о второй ванне дихромовая кислота внутри голья восстанавливается тиосульфатом в присутствии кислоты с образованием основной хромовой соли, фиксирующейся коллагеном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440000" y="4221000"/>
            <a:ext cx="62640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3Na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8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+ H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Cr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+ 2H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SO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2Cr(OH)SO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+3Na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SO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+3S+2H</a:t>
            </a:r>
            <a:r>
              <a:rPr b="0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684360" y="387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Хромо-растительное дубление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9280" y="10810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заключается в последовательной обработке голья растворами основных хромовых солей и растительных дубящих веществ — таннидов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82560" y="401940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для получения дубильных экстрактов используются в основном древесина и кора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дуба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, кора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ивы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ели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и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лиственниц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rcRect l="0" t="11999" r="0" b="18649"/>
          <a:stretch/>
        </p:blipFill>
        <p:spPr>
          <a:xfrm>
            <a:off x="1619280" y="2133720"/>
            <a:ext cx="5168880" cy="4365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365640" y="39528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Дерм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32720" y="3429000"/>
            <a:ext cx="24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4-потовая железа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32720" y="465300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VI</a:t>
            </a:r>
            <a:r>
              <a:rPr b="0" lang="ru-RU" sz="20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-сетчатый </a:t>
            </a: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_x000b_</a:t>
            </a:r>
            <a:r>
              <a:rPr b="0" lang="ru-RU" sz="20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слой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360" y="342900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6-луковица волоса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920" y="242100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5-сальная</a:t>
            </a:r>
            <a:br>
              <a:rPr sz="2000"/>
            </a:b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железа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32720" y="242100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V</a:t>
            </a:r>
            <a:r>
              <a:rPr b="0" lang="ru-RU" sz="20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-сосочковый слой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4581360"/>
            <a:ext cx="16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1-пучек коллагеновых волокон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72360" y="551664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052640"/>
            <a:ext cx="8642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—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основной слой шкуры, из которого получают кожу, имеет волокнистое строени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1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84360" y="39060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родолжительность дубления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523880" y="1262160"/>
          <a:ext cx="6096240" cy="4111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убление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днофазное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о </a:t>
                      </a:r>
                      <a:r>
                        <a:rPr b="1" i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2</a:t>
                      </a: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час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вухфазное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о </a:t>
                      </a:r>
                      <a:r>
                        <a:rPr b="1" i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4</a:t>
                      </a: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час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о </a:t>
                      </a:r>
                      <a:r>
                        <a:rPr b="1" i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2</a:t>
                      </a: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час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рёхфазное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—24</a:t>
                      </a: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час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8—72</a:t>
                      </a: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час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4</a:t>
                      </a: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час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95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олежка в штабелях в течение </a:t>
                      </a:r>
                      <a:r>
                        <a:rPr b="1" i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4—36</a:t>
                      </a: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час</a:t>
                      </a:r>
                      <a:r>
                        <a:rPr b="0" i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84360" y="3888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Дуб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788000" y="2133720"/>
            <a:ext cx="388944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Древесина дуба содержит в среднем 4,5—6% таннидов; кора — около 9%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Жидкий экстракт содержит не менее 25% таннидов, твердый — не менее 48,5%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Кожа, выдубленная дубовым экстрактом, приобретает желто-коричневый цвет.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541440" y="1628640"/>
            <a:ext cx="3598920" cy="41785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843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Ива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32360" y="1916280"/>
            <a:ext cx="35272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Содержание таннидов в ивовой коре составляет в среднем 9 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В твердом ивовом экстракте содержится не менее 38% таннидов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Выдубленная кожа имеет светлую окраску с розовато-желтым оттенком.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539640" y="1494000"/>
            <a:ext cx="3598920" cy="38700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5843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Ель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148360" y="1911240"/>
            <a:ext cx="33112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В еловой коре среднее содержание таннидов составляет 9— 10%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В твердом еловом экстракте содержится не менее 37,5% таннидов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Еловый экстракт сообщает коже розово-желтый цвет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3598920" cy="48056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5843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Лиственница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19640" y="1268280"/>
            <a:ext cx="302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Кора лиственницы содержит 7—10% таннидов.В твердом лиственном экстракте содержится не менее 34% таннидов.Экстракт коры лиственницы применяется для дубления жестких и мягких кож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598920" cy="51278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124000" y="1484280"/>
            <a:ext cx="489600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Промывка кож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Строжк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Нейтрализаци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Сушк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Тяжк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Покрывное крашени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Лощени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Прессовани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10" action="ppaction://hlinksldjump"/>
              </a:rPr>
              <a:t>Маркировка, упаковка и хранени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569960" y="39060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Последубильные и отделочные процессы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5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ромывка кож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71640" y="1144440"/>
            <a:ext cx="7200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роизводится для удаления избытка несвязанных таннидов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ыполняется во вращающемся барабан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ремя промывки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10—30 мин. для жестких кож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45—60 мин. для юфт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трожк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716360" y="1268280"/>
            <a:ext cx="3961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роизводится для выравнивания толщины путем частичного срезания дермы с бахтармяной стороны кож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роизводится на строгальных машинах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321080" cy="38098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Нейтрализация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71640" y="1149480"/>
            <a:ext cx="72007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оизводят для удаления свободной кислот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кожи нейтрализуют во вращающемся барабане слабым раствором бикарбоната натри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ремя нейтрализации – 45—60 мин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до и после   нейтрализации   кожи промывают теплой водой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3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569960" y="3999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ушк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71640" y="1125360"/>
            <a:ext cx="72007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роизводится для удаления из кожи избыточной влаг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ушку проводят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1) в свободном состоянии взавес на шестах или крюках;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2) в растянутом или расправленном состоянии с закреплением на металлических рамах специальными зажимами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3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10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осочковый слой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19280" y="1155600"/>
            <a:ext cx="77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Сосочковый слой располагается от эпидермиса на глубину залегания волосяных сумок. В нем находятся, кроме волосяных сумок, сальные и потовые железы, кровеносные сосуды, мускулы, поднимающие волос, нервные окончани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250920" y="546120"/>
            <a:ext cx="8642160" cy="57657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Тяжк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71640" y="112536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обработка верхних хромовых и юфтевых кож на тянульных машинах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2405160" y="2717640"/>
            <a:ext cx="4308480" cy="32324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569960" y="38088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Тяжк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71640" y="1125360"/>
            <a:ext cx="720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Сущность этой операции заключается в механическом разделении структурных элементов кожи и их ориентации под воздействием растягивающих и изгибающих усилий. В результате тяжки кожа приобретает мягкость и гибкость; одновременно несколько увеличивается и ее площадь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1311120" y="4869000"/>
            <a:ext cx="2540160" cy="18032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292720" y="4869000"/>
            <a:ext cx="1554120" cy="17920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569960" y="38088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Тяжк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08040" y="1623960"/>
            <a:ext cx="7905600" cy="428004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569960" y="39060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окрывное крашение (аппретирование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971640" y="1801800"/>
            <a:ext cx="7200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нанесение покрытия на лицевую поверхность кож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оизводят для выравнивания различий в оттенках после барабанного крашения, придания блеска лицевой поверхности и увеличения ее устойчивости к действию влаги, пыли и гряз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6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569960" y="39060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окрывное крашение (аппретирование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71640" y="1873080"/>
            <a:ext cx="72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ущность покрывного крашения заключается в нанесении тонкого слоя покрывной краски (аппретуры), состоящей в основном из пленкообразователя и растворителя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окрытия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124000" y="1889280"/>
            <a:ext cx="489600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Белковы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Нитроцеллюлозны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Акриловы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04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Их различные сочетания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7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остав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0920" y="1125360"/>
            <a:ext cx="8642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казеин в качестве пленкообразующего вещества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игменты — неорганических и органических красящие вещества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ода с добавкой щелочи (аммиака, буры) в качестве растворителя казеина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ластификаторы, преимущественно глицерин и ализариновое масло, для сообщения гибкости и эластичности казеиновым пленкам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консервирующие вещества (антисептики) для предупреждения загнивания краски (фенол).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7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569960" y="3999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войств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71640" y="1168560"/>
            <a:ext cx="720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одные казеиновые покрытия образуют нежную, шелковистую, с высоким блеском пленку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авильно нанесенное казеиновое покрытие обеспечивает сохранение естественной мереи, мягкость лица и удовлетворительные гигиенические свойства кожи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569960" y="3999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остав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50920" y="1139760"/>
            <a:ext cx="8642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нитроцеллюлоза в качестве пленкообразующего вещества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игменты — неорганических и органических красящих веществ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летучие компоненты — смеси органических растворителей (этилацетат, амилацетат, бутилацетат, этиловый спирт и др.)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ластификаторы — высококипящие органические жидкости, сообщающие нитроцеллюлозпым пленкам необходимую гибкость (дибутилфталат, трикрезилфосфат, касторовое масло и др.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8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2920" y="10584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етчатый слой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3280" y="1149480"/>
            <a:ext cx="81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етчатый слой дермы является для кожевенного производства основной частью шкуры. Структура его во многом определяет свойства кожи — ее прочность, тягучесть, устойчивость к истиранию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етчатый слой характеризуется плотным переплетением хорошо развитых пучков коллагеновых волокон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569960" y="3999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войств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1125360"/>
            <a:ext cx="720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Основным </a:t>
            </a:r>
            <a:r>
              <a:rPr b="0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достоинством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нитроцеллюлозных покрытий является высокая устойчивость к действию воды и трению в сухом и мокром состоянии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Недостатки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: кожи часто не имеют характерной нежности и шелковистости лицевой поверхности и отличаются низкой паро- и воздухопроницаемостью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569960" y="3999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остав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0920" y="112536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Основной составной частью акриловых покрытий являются акриловые смолы, представляющие продукты полимеризации и со-полимеризации эфиров акриловой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и  метакриловой кислот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0920" y="4210200"/>
            <a:ext cx="43210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i="1" lang="ru-RU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—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СОО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: –CH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; –C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572000" y="4138560"/>
            <a:ext cx="43210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 = С(CН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) — СОО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: –CH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565164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эфиров акриловой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ислот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5661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эфиров метакриловой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ислот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569960" y="3999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войств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71640" y="1125360"/>
            <a:ext cx="72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Обладают большой гибкостью и эластичностью, хорошим внешним видом, высокой прочностью связи с кожей и практической неизменяемостью при хранении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Недостатки: пониженная морозоустойчивость, а также недостаточная устойчивость к действию нагрева, сочетающегося с давлением или трением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Лощение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971640" y="1052640"/>
            <a:ext cx="72007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оводят для сообщения необходимого блеска их лицевой поверхност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сущность лощения заключается в проглаживании кожи с лицевой стороны полированным лощильным валиком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операция выполняется на лощильной машине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3619440" y="4581360"/>
            <a:ext cx="1905120" cy="20196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рессование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95640" y="1268280"/>
            <a:ext cx="48974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Цель прессования заключается в уплотнении кожи, повышении водоустойчивости покрытий кожи, улучшении ее внешнего вида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роцесс прессования выполняется на соответствующих прессах или роликовых мерейных машинах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274680" y="1268280"/>
            <a:ext cx="3649680" cy="496908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569960" y="39060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Маркировка, упаковка и хранение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971640" y="1844640"/>
            <a:ext cx="72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Кожевенные материалы перед выпуском с кожевенных заводов измеряют по площади или взвешивают, определяют их сорт и толщину и маркируют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Упаковк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71640" y="1125360"/>
            <a:ext cx="72007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Жесткие кожи складывают в пачки или свертывают в рулоны или трубки и упаковывают в мягкую тару (ткань, рогожу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ерхние и подкладочные кожи складывают в пачки или свертывают в трубки и рулоны в зависимости от вида кож и их размера и упаковывают в тару — мягкую для юфти и жесткую (ящики) для хромовых кож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Условия хранения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0920" y="1154160"/>
            <a:ext cx="4968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на деревянных настилах или на полочных стеллажах, защищенных от пыли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 вентилируемых складских помещениях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64000" y="1268280"/>
            <a:ext cx="3527640" cy="257508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200160" y="4221000"/>
            <a:ext cx="871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и температуре не ниже 5° и не выше 25° и относительной влажности воздуха 55—70%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и длительном хранении кожи необходимо периодически перекладывать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2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троение кожи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971640" y="1268280"/>
            <a:ext cx="72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Кожа представляет собой весьма сложную волокнистую систему, образуемую взаимным переплетением в разных плоскостях волокон, разнообразных по форме, размерам и расположению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71640" y="45813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Слои кож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Микротопография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 кож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569960" y="3999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троение кожи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308720" y="155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сосочковый слой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2076480" y="1268280"/>
            <a:ext cx="4989600" cy="537876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7164360" y="1268280"/>
            <a:ext cx="216000" cy="12970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692360" y="2637000"/>
            <a:ext cx="287280" cy="3456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5"/>
                </a:lnTo>
                <a:cubicBezTo>
                  <a:pt x="10800" y="9905"/>
                  <a:pt x="5400" y="10805"/>
                  <a:pt x="0" y="10805"/>
                </a:cubicBezTo>
                <a:cubicBezTo>
                  <a:pt x="5400" y="10805"/>
                  <a:pt x="10800" y="11705"/>
                  <a:pt x="10800" y="126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4076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сетчатый слой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3825720" y="1773360"/>
            <a:ext cx="1622520" cy="5040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1989000"/>
            <a:ext cx="35640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1 -стержен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2 -корен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3 -наружная оболочка волосяной сумк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84720" y="1989000"/>
            <a:ext cx="305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4 -внутренняя оболочка волосяной сумк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5 -сосочек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6 -луковиц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34920" y="39528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Схема строения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системы волос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4528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1569960" y="3999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осочковый слой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828720" y="1341360"/>
            <a:ext cx="7488360" cy="495144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203480" y="390600"/>
            <a:ext cx="667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Мерея разных видов кожи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611280" y="1270080"/>
            <a:ext cx="2138400" cy="215892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3481560" y="1270080"/>
            <a:ext cx="2170080" cy="215892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4"/>
          <a:stretch/>
        </p:blipFill>
        <p:spPr>
          <a:xfrm>
            <a:off x="6356520" y="1258920"/>
            <a:ext cx="2170080" cy="215892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5"/>
          <a:stretch/>
        </p:blipFill>
        <p:spPr>
          <a:xfrm>
            <a:off x="601560" y="4149720"/>
            <a:ext cx="2148120" cy="21589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3492360" y="4149720"/>
            <a:ext cx="2127240" cy="21589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7"/>
          <a:stretch/>
        </p:blipFill>
        <p:spPr>
          <a:xfrm>
            <a:off x="6356520" y="4149720"/>
            <a:ext cx="2170080" cy="21589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900000" y="3429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конская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768840" y="3429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коровья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659640" y="3429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опойка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88840" y="63118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овчины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80000" y="630864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козлины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659640" y="6308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свиная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5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569960" y="3999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етчатый слой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5373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а — ромбовидная петля;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б —вязь нескольких петел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239760" y="1987560"/>
            <a:ext cx="8637480" cy="30970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569960" y="39996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оотношение толщин слоёв кожи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788000" y="3300480"/>
            <a:ext cx="39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1 – сетчатый слой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2 – сосочковый слой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822240" y="1630440"/>
            <a:ext cx="3318120" cy="50385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250920" y="39996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Основные</a:t>
            </a:r>
            <a:br>
              <a:rPr sz="3600"/>
            </a:b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оказатели структуры сетчатого слоя кожи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411280" y="2698920"/>
            <a:ext cx="432144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угол наклона к горизонтал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компактность укладки слоев кожи крупного рогатого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расщепленност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04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толщина (полнота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7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Угол наклона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39640" y="5607000"/>
            <a:ext cx="39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вертикальное —</a:t>
            </a:r>
            <a:br>
              <a:rPr sz="2000"/>
            </a:b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под большим углом,</a:t>
            </a:r>
            <a:br>
              <a:rPr sz="2000"/>
            </a:b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близким к 90°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604800" y="1341360"/>
            <a:ext cx="7916760" cy="413244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4714920" y="560700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горизонтальное —</a:t>
            </a:r>
            <a:br>
              <a:rPr sz="2000"/>
            </a:b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под малым углом,</a:t>
            </a:r>
            <a:br>
              <a:rPr sz="2000"/>
            </a:b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близким к 0°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7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Компактность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971640" y="133020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лотность взаимного прилегания пучков волокон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Расщеплённость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611280" y="1290600"/>
            <a:ext cx="7916760" cy="401004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539640" y="558972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значительна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716360" y="558972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незначительна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75640" y="5877000"/>
            <a:ext cx="298440" cy="56520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56760" y="331920"/>
            <a:ext cx="57924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Расщеплённость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000080" y="1066680"/>
            <a:ext cx="71294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лотная укладка пучков волокон сообщает коже жесткость и стойкость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равномерное разъединение волоконных пучков придает коже гибкость и упругость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и рыхлой укладке пучков волокон кожа становится рыхлой и слабой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5840" y="331920"/>
            <a:ext cx="579240" cy="36648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569960" y="3906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Толщина пучков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50920" y="1139760"/>
            <a:ext cx="86421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С толщиной волоконных пучков кожи связана ее общая толщина, а также плотность, гибкость и ряд других физико-механических свойств кожи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толстые пучки с поперечником более 70 </a:t>
            </a:r>
            <a:r>
              <a:rPr b="0" i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средние—30—70 </a:t>
            </a:r>
            <a:r>
              <a:rPr b="0" i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тонкие с поперечником менее 30 </a:t>
            </a:r>
            <a:r>
              <a:rPr b="0" i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21600" y="115920"/>
            <a:ext cx="2667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10:35:17Z</dcterms:created>
  <dc:creator>Admin</dc:creator>
  <dc:description/>
  <dc:language>en-US</dc:language>
  <cp:lastModifiedBy>Ирина</cp:lastModifiedBy>
  <dcterms:modified xsi:type="dcterms:W3CDTF">2009-11-22T20:22:17Z</dcterms:modified>
  <cp:revision>58</cp:revision>
  <dc:subject/>
  <dc:title>ОБУВНЫЕ МАТЕРИАЛЫ.  Обувные кожи. </dc:title>
</cp:coreProperties>
</file>